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5549-CFF9-4816-951F-91ACD07C1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8001000"/>
            <a:ext cx="6172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uva-logo.png"/>
          <p:cNvPicPr/>
          <p:nvPr/>
        </p:nvPicPr>
        <p:blipFill>
          <a:blip r:embed="rId2"/>
          <a:stretch/>
        </p:blipFill>
        <p:spPr>
          <a:xfrm>
            <a:off x="5562720" y="8077320"/>
            <a:ext cx="8636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24F-4218-4FB1-AFE3-AD0AE1913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8FC-460E-498C-AE3C-E0A1B944D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B17D-9509-4CB9-A265-83CB748FE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6D0-B2F1-4B38-B654-B3A9E9FB9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B74-A782-40EA-90AD-CFAAFE985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2E8-9F69-4A94-B71F-F8E764D11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DD18-04B3-4EC3-9FA9-F59FD6B43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9B6B-8EC7-4940-97C3-7621C837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5AD6-C251-4F14-8621-06D4334CD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F3D-B3F0-4F70-B849-CF21B3680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9B2-7FC3-4242-8068-5182185FE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CB9-DBA1-42F9-877A-34D1955F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304F-74ED-4552-8777-62894C77D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CFDB-418B-4EC3-BB6F-F93967A01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4399-644B-486C-A4F8-F1DE3C180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6E97-89D7-4DFD-9BD8-C9316EE5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7CAF-F330-40AE-B386-97EF1644E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04A-B57C-48DD-8044-F2C2E6C42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340-3017-41E1-ADB1-06EE1821B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ECA-66EC-4E29-9CD5-F683E6918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78A5-A3EF-4A81-BDB3-8ABE8A5EF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4258-FF9A-4216-B8AC-2E767D2A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976D-072B-4AF5-93F9-FFF8C1C2A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51A-B75A-4E09-A1FF-6AD92890F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346-DB26-4A1E-81B7-2F2E3BF6E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86F-30B5-4258-8E21-51E009796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E338-ECB2-4158-8DCE-3904D74A1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4ADE-D059-4989-A0EA-70A924F72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9A7-3461-4E19-BF5C-0BAAA1886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404-0927-494E-97F1-5ADA1FBBF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F49-F68F-46A8-897B-218BCED5C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C0D-0872-473C-9CA0-0E66FA3CB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F55-EE39-4E9B-9B49-4598BA38A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86B7-7A54-463B-93B6-AB2D7093C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uva-logo.png"/>
          <p:cNvPicPr/>
          <p:nvPr/>
        </p:nvPicPr>
        <p:blipFill>
          <a:blip r:embed="rId2"/>
          <a:stretch/>
        </p:blipFill>
        <p:spPr>
          <a:xfrm>
            <a:off x="7783560" y="590220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304920" y="5867280"/>
            <a:ext cx="8458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8282520" y="6488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05B-5F13-4D8F-807C-2EBA48E25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5"/>
          <p:cNvSpPr/>
          <p:nvPr/>
        </p:nvSpPr>
        <p:spPr>
          <a:xfrm>
            <a:off x="152280" y="152280"/>
            <a:ext cx="88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 stable and low power on-chip system clock circuit for sensor nodes and low Power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4495680"/>
            <a:ext cx="4343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btaining accurat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0" y="82692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ismatch b/w current source will result in frequency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498780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0" y="47458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dditional digital delay line is used for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Maximum delay comes from current sourc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inverter based delay line corrects for offset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5562720" y="2394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D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149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Straight Arrow Connector 58"/>
            <p:cNvCxnSpPr>
              <a:stCxn id="149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53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159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68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176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in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192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93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"/>
          <p:cNvSpPr/>
          <p:nvPr/>
        </p:nvSpPr>
        <p:spPr>
          <a:xfrm>
            <a:off x="0" y="4110480"/>
            <a:ext cx="91440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Every cycle DCO is compared with reference by frequency compar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[25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Its output sets the 15 bit of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ternate cycles are used for calibration to enable the settling of current 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nce calibrated reference can be turn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1"/>
          <p:cNvSpPr/>
          <p:nvPr/>
        </p:nvSpPr>
        <p:spPr>
          <a:xfrm>
            <a:off x="152280" y="380988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4"/>
          <p:cNvSpPr/>
          <p:nvPr/>
        </p:nvSpPr>
        <p:spPr>
          <a:xfrm flipV="1">
            <a:off x="533520" y="35809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76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8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81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7"/>
          <p:cNvSpPr/>
          <p:nvPr/>
        </p:nvSpPr>
        <p:spPr>
          <a:xfrm>
            <a:off x="556272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8"/>
          <p:cNvSpPr/>
          <p:nvPr/>
        </p:nvSpPr>
        <p:spPr>
          <a:xfrm flipV="1">
            <a:off x="5943600" y="3123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9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10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1"/>
          <p:cNvSpPr/>
          <p:nvPr/>
        </p:nvSpPr>
        <p:spPr>
          <a:xfrm>
            <a:off x="640080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1"/>
          <p:cNvSpPr/>
          <p:nvPr/>
        </p:nvSpPr>
        <p:spPr>
          <a:xfrm>
            <a:off x="8077320" y="2209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32"/>
          <p:cNvSpPr/>
          <p:nvPr/>
        </p:nvSpPr>
        <p:spPr>
          <a:xfrm flipV="1">
            <a:off x="845820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33"/>
          <p:cNvSpPr/>
          <p:nvPr/>
        </p:nvSpPr>
        <p:spPr>
          <a:xfrm>
            <a:off x="8458200" y="198108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34"/>
          <p:cNvSpPr/>
          <p:nvPr/>
        </p:nvSpPr>
        <p:spPr>
          <a:xfrm>
            <a:off x="8610480" y="1981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35"/>
          <p:cNvSpPr/>
          <p:nvPr/>
        </p:nvSpPr>
        <p:spPr>
          <a:xfrm>
            <a:off x="86104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36"/>
          <p:cNvSpPr/>
          <p:nvPr/>
        </p:nvSpPr>
        <p:spPr>
          <a:xfrm flipV="1">
            <a:off x="876312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7"/>
          <p:cNvSpPr/>
          <p:nvPr/>
        </p:nvSpPr>
        <p:spPr>
          <a:xfrm>
            <a:off x="8763120" y="198108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8"/>
          <p:cNvSpPr/>
          <p:nvPr/>
        </p:nvSpPr>
        <p:spPr>
          <a:xfrm flipV="1">
            <a:off x="883908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39"/>
          <p:cNvSpPr/>
          <p:nvPr/>
        </p:nvSpPr>
        <p:spPr>
          <a:xfrm>
            <a:off x="88390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0"/>
          <p:cNvSpPr/>
          <p:nvPr/>
        </p:nvSpPr>
        <p:spPr>
          <a:xfrm>
            <a:off x="2614680" y="23623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41"/>
          <p:cNvSpPr/>
          <p:nvPr/>
        </p:nvSpPr>
        <p:spPr>
          <a:xfrm flipV="1">
            <a:off x="2995560" y="21333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2"/>
          <p:cNvSpPr/>
          <p:nvPr/>
        </p:nvSpPr>
        <p:spPr>
          <a:xfrm>
            <a:off x="2995560" y="21337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45"/>
          <p:cNvSpPr/>
          <p:nvPr/>
        </p:nvSpPr>
        <p:spPr>
          <a:xfrm>
            <a:off x="76320" y="25909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46"/>
          <p:cNvSpPr/>
          <p:nvPr/>
        </p:nvSpPr>
        <p:spPr>
          <a:xfrm flipV="1">
            <a:off x="45720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47"/>
          <p:cNvSpPr/>
          <p:nvPr/>
        </p:nvSpPr>
        <p:spPr>
          <a:xfrm>
            <a:off x="457200" y="23623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8"/>
          <p:cNvSpPr/>
          <p:nvPr/>
        </p:nvSpPr>
        <p:spPr>
          <a:xfrm>
            <a:off x="609480" y="23623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9"/>
          <p:cNvSpPr/>
          <p:nvPr/>
        </p:nvSpPr>
        <p:spPr>
          <a:xfrm>
            <a:off x="6094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50"/>
          <p:cNvSpPr/>
          <p:nvPr/>
        </p:nvSpPr>
        <p:spPr>
          <a:xfrm flipV="1">
            <a:off x="76212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1"/>
          <p:cNvSpPr/>
          <p:nvPr/>
        </p:nvSpPr>
        <p:spPr>
          <a:xfrm>
            <a:off x="762120" y="236232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2"/>
          <p:cNvSpPr/>
          <p:nvPr/>
        </p:nvSpPr>
        <p:spPr>
          <a:xfrm flipV="1">
            <a:off x="83808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53"/>
          <p:cNvSpPr/>
          <p:nvPr/>
        </p:nvSpPr>
        <p:spPr>
          <a:xfrm>
            <a:off x="8380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1" descr="PTAT_Calibration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562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3" descr="PTAT_stable.png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685800" y="5869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3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Very close to referenc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40752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pler architecture than an ADP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uch lower settl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akes 46 cycles to settle compared to 64000 cycles in [2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equently lower power during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fter calibration gives output clock in phase with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isadvantage -&gt; After calibration does not track th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n use counter control technique to keep it in lock[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the oscillator controls the dr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ock_stab.emf"/>
          <p:cNvPicPr/>
          <p:nvPr/>
        </p:nvPicPr>
        <p:blipFill>
          <a:blip r:embed="rId1"/>
          <a:stretch/>
        </p:blipFill>
        <p:spPr>
          <a:xfrm>
            <a:off x="0" y="762120"/>
            <a:ext cx="6629400" cy="36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15228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achieve 40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mparable to reported best work 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be improved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 rot="18000000">
            <a:off x="3613320" y="475920"/>
            <a:ext cx="1020600" cy="3957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9" descr="ICOMP_NOM_NEW.png"/>
          <p:cNvPicPr/>
          <p:nvPr/>
        </p:nvPicPr>
        <p:blipFill>
          <a:blip r:embed="rId1"/>
          <a:stretch/>
        </p:blipFill>
        <p:spPr>
          <a:xfrm>
            <a:off x="0" y="914400"/>
            <a:ext cx="752004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 flipV="1" rot="3600000">
            <a:off x="4963680" y="899280"/>
            <a:ext cx="1020960" cy="3957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0" y="4349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t higher temperature 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has similar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e leakage current to appl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8"/>
          <p:cNvGrpSpPr/>
          <p:nvPr/>
        </p:nvGrpSpPr>
        <p:grpSpPr>
          <a:xfrm>
            <a:off x="533520" y="1142640"/>
            <a:ext cx="6476760" cy="2865600"/>
            <a:chOff x="533520" y="1142640"/>
            <a:chExt cx="6476760" cy="2865600"/>
          </a:xfrm>
        </p:grpSpPr>
        <p:sp>
          <p:nvSpPr>
            <p:cNvPr id="251" name="Freeform 5"/>
            <p:cNvSpPr/>
            <p:nvPr/>
          </p:nvSpPr>
          <p:spPr>
            <a:xfrm>
              <a:off x="2494080" y="168120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2603520" y="1805040"/>
              <a:ext cx="98280" cy="22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>
              <a:off x="2638440" y="14666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504880" y="1458720"/>
              <a:ext cx="28080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2495520" y="2189160"/>
              <a:ext cx="355320" cy="471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2652840" y="20858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2494080" y="275256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03520" y="2874960"/>
              <a:ext cx="98280" cy="226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644920" y="25527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832120" y="2359080"/>
              <a:ext cx="131760" cy="131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2644920" y="31575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2504880" y="3375000"/>
              <a:ext cx="28080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2560680" y="34322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"/>
            <p:cNvSpPr/>
            <p:nvPr/>
          </p:nvSpPr>
          <p:spPr>
            <a:xfrm>
              <a:off x="2617920" y="3487680"/>
              <a:ext cx="554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4343400" y="2438280"/>
              <a:ext cx="14040" cy="28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4237200" y="2712960"/>
              <a:ext cx="22536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4"/>
            <p:cNvSpPr/>
            <p:nvPr/>
          </p:nvSpPr>
          <p:spPr>
            <a:xfrm>
              <a:off x="4237200" y="2770200"/>
              <a:ext cx="22536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5"/>
            <p:cNvSpPr/>
            <p:nvPr/>
          </p:nvSpPr>
          <p:spPr>
            <a:xfrm>
              <a:off x="4343400" y="2776680"/>
              <a:ext cx="14040" cy="6206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6"/>
            <p:cNvSpPr/>
            <p:nvPr/>
          </p:nvSpPr>
          <p:spPr>
            <a:xfrm>
              <a:off x="4202280" y="3389400"/>
              <a:ext cx="2822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4259160" y="34466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8"/>
            <p:cNvSpPr/>
            <p:nvPr/>
          </p:nvSpPr>
          <p:spPr>
            <a:xfrm>
              <a:off x="4314960" y="3502080"/>
              <a:ext cx="5688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2854080" y="172872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2308320" y="388620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9"/>
            <p:cNvSpPr/>
            <p:nvPr/>
          </p:nvSpPr>
          <p:spPr>
            <a:xfrm>
              <a:off x="2973240" y="289548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89"/>
            <p:cNvSpPr/>
            <p:nvPr/>
          </p:nvSpPr>
          <p:spPr>
            <a:xfrm>
              <a:off x="297180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95"/>
            <p:cNvSpPr/>
            <p:nvPr/>
          </p:nvSpPr>
          <p:spPr>
            <a:xfrm>
              <a:off x="53352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43"/>
            <p:cNvSpPr/>
            <p:nvPr/>
          </p:nvSpPr>
          <p:spPr>
            <a:xfrm>
              <a:off x="685800" y="30481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45"/>
            <p:cNvSpPr/>
            <p:nvPr/>
          </p:nvSpPr>
          <p:spPr>
            <a:xfrm flipV="1">
              <a:off x="1066680" y="2590920"/>
              <a:ext cx="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46"/>
            <p:cNvSpPr/>
            <p:nvPr/>
          </p:nvSpPr>
          <p:spPr>
            <a:xfrm>
              <a:off x="1066680" y="25909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49"/>
            <p:cNvSpPr/>
            <p:nvPr/>
          </p:nvSpPr>
          <p:spPr>
            <a:xfrm>
              <a:off x="5105520" y="2666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51"/>
            <p:cNvSpPr/>
            <p:nvPr/>
          </p:nvSpPr>
          <p:spPr>
            <a:xfrm flipH="1" flipV="1">
              <a:off x="5486040" y="2666880"/>
              <a:ext cx="68580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153"/>
            <p:cNvSpPr/>
            <p:nvPr/>
          </p:nvSpPr>
          <p:spPr>
            <a:xfrm>
              <a:off x="6172200" y="31240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56"/>
            <p:cNvGrpSpPr/>
            <p:nvPr/>
          </p:nvGrpSpPr>
          <p:grpSpPr>
            <a:xfrm>
              <a:off x="1904760" y="1142640"/>
              <a:ext cx="2743560" cy="1295640"/>
              <a:chOff x="1904760" y="1142640"/>
              <a:chExt cx="2743560" cy="1295640"/>
            </a:xfrm>
          </p:grpSpPr>
          <p:grpSp>
            <p:nvGrpSpPr>
              <p:cNvPr id="284" name="Group 94"/>
              <p:cNvGrpSpPr/>
              <p:nvPr/>
            </p:nvGrpSpPr>
            <p:grpSpPr>
              <a:xfrm>
                <a:off x="3581640" y="1905120"/>
                <a:ext cx="239400" cy="380880"/>
                <a:chOff x="3581640" y="1905120"/>
                <a:chExt cx="239400" cy="380880"/>
              </a:xfrm>
            </p:grpSpPr>
            <p:sp>
              <p:nvSpPr>
                <p:cNvPr id="285" name="Freeform 9"/>
                <p:cNvSpPr/>
                <p:nvPr/>
              </p:nvSpPr>
              <p:spPr>
                <a:xfrm>
                  <a:off x="3669840" y="1905120"/>
                  <a:ext cx="114840" cy="380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5072" h="6687">
                      <a:moveTo>
                        <a:pt x="0" y="143"/>
                      </a:moveTo>
                      <a:cubicBezTo>
                        <a:pt x="0" y="93"/>
                        <a:pt x="28" y="47"/>
                        <a:pt x="72" y="24"/>
                      </a:cubicBezTo>
                      <a:cubicBezTo>
                        <a:pt x="117" y="0"/>
                        <a:pt x="170" y="2"/>
                        <a:pt x="212" y="30"/>
                      </a:cubicBezTo>
                      <a:lnTo>
                        <a:pt x="5012" y="3230"/>
                      </a:lnTo>
                      <a:cubicBezTo>
                        <a:pt x="5050" y="3256"/>
                        <a:pt x="5072" y="3298"/>
                        <a:pt x="5072" y="3343"/>
                      </a:cubicBezTo>
                      <a:cubicBezTo>
                        <a:pt x="5072" y="3389"/>
                        <a:pt x="5050" y="3431"/>
                        <a:pt x="5012" y="3457"/>
                      </a:cubicBezTo>
                      <a:lnTo>
                        <a:pt x="212" y="6657"/>
                      </a:lnTo>
                      <a:cubicBezTo>
                        <a:pt x="170" y="6684"/>
                        <a:pt x="117" y="6687"/>
                        <a:pt x="72" y="6663"/>
                      </a:cubicBezTo>
                      <a:cubicBezTo>
                        <a:pt x="28" y="6640"/>
                        <a:pt x="0" y="6594"/>
                        <a:pt x="0" y="6543"/>
                      </a:cubicBezTo>
                      <a:lnTo>
                        <a:pt x="0" y="143"/>
                      </a:lnTo>
                      <a:close/>
                      <a:moveTo>
                        <a:pt x="272" y="6543"/>
                      </a:moveTo>
                      <a:lnTo>
                        <a:pt x="61" y="6430"/>
                      </a:lnTo>
                      <a:lnTo>
                        <a:pt x="4861" y="3230"/>
                      </a:lnTo>
                      <a:lnTo>
                        <a:pt x="4861" y="3457"/>
                      </a:lnTo>
                      <a:lnTo>
                        <a:pt x="61" y="257"/>
                      </a:lnTo>
                      <a:lnTo>
                        <a:pt x="272" y="143"/>
                      </a:lnTo>
                      <a:lnTo>
                        <a:pt x="272" y="6543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3778560" y="2042280"/>
                  <a:ext cx="42480" cy="106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871" h="1871">
                      <a:moveTo>
                        <a:pt x="0" y="942"/>
                      </a:moveTo>
                      <a:lnTo>
                        <a:pt x="4" y="847"/>
                      </a:lnTo>
                      <a:lnTo>
                        <a:pt x="17" y="754"/>
                      </a:lnTo>
                      <a:lnTo>
                        <a:pt x="40" y="663"/>
                      </a:lnTo>
                      <a:lnTo>
                        <a:pt x="71" y="577"/>
                      </a:lnTo>
                      <a:lnTo>
                        <a:pt x="110" y="495"/>
                      </a:lnTo>
                      <a:lnTo>
                        <a:pt x="156" y="418"/>
                      </a:lnTo>
                      <a:cubicBezTo>
                        <a:pt x="160" y="412"/>
                        <a:pt x="164" y="407"/>
                        <a:pt x="168" y="402"/>
                      </a:cubicBezTo>
                      <a:lnTo>
                        <a:pt x="266" y="284"/>
                      </a:lnTo>
                      <a:cubicBezTo>
                        <a:pt x="271" y="277"/>
                        <a:pt x="277" y="271"/>
                        <a:pt x="284" y="266"/>
                      </a:cubicBezTo>
                      <a:lnTo>
                        <a:pt x="402" y="168"/>
                      </a:lnTo>
                      <a:cubicBezTo>
                        <a:pt x="407" y="164"/>
                        <a:pt x="412" y="160"/>
                        <a:pt x="418" y="156"/>
                      </a:cubicBezTo>
                      <a:lnTo>
                        <a:pt x="484" y="116"/>
                      </a:lnTo>
                      <a:lnTo>
                        <a:pt x="565" y="76"/>
                      </a:lnTo>
                      <a:lnTo>
                        <a:pt x="650" y="44"/>
                      </a:lnTo>
                      <a:lnTo>
                        <a:pt x="740" y="20"/>
                      </a:lnTo>
                      <a:lnTo>
                        <a:pt x="833" y="5"/>
                      </a:lnTo>
                      <a:lnTo>
                        <a:pt x="929" y="0"/>
                      </a:lnTo>
                      <a:lnTo>
                        <a:pt x="1024" y="4"/>
                      </a:lnTo>
                      <a:lnTo>
                        <a:pt x="1117" y="17"/>
                      </a:lnTo>
                      <a:lnTo>
                        <a:pt x="1208" y="40"/>
                      </a:lnTo>
                      <a:lnTo>
                        <a:pt x="1294" y="71"/>
                      </a:lnTo>
                      <a:lnTo>
                        <a:pt x="1376" y="110"/>
                      </a:lnTo>
                      <a:lnTo>
                        <a:pt x="1453" y="156"/>
                      </a:lnTo>
                      <a:cubicBezTo>
                        <a:pt x="1459" y="160"/>
                        <a:pt x="1464" y="163"/>
                        <a:pt x="1469" y="167"/>
                      </a:cubicBezTo>
                      <a:lnTo>
                        <a:pt x="1588" y="265"/>
                      </a:lnTo>
                      <a:cubicBezTo>
                        <a:pt x="1595" y="271"/>
                        <a:pt x="1601" y="277"/>
                        <a:pt x="1607" y="284"/>
                      </a:cubicBezTo>
                      <a:lnTo>
                        <a:pt x="1704" y="402"/>
                      </a:lnTo>
                      <a:cubicBezTo>
                        <a:pt x="1708" y="407"/>
                        <a:pt x="1711" y="412"/>
                        <a:pt x="1715" y="418"/>
                      </a:cubicBezTo>
                      <a:lnTo>
                        <a:pt x="1755" y="484"/>
                      </a:lnTo>
                      <a:lnTo>
                        <a:pt x="1795" y="565"/>
                      </a:lnTo>
                      <a:lnTo>
                        <a:pt x="1827" y="650"/>
                      </a:lnTo>
                      <a:lnTo>
                        <a:pt x="1851" y="740"/>
                      </a:lnTo>
                      <a:lnTo>
                        <a:pt x="1866" y="833"/>
                      </a:lnTo>
                      <a:lnTo>
                        <a:pt x="1871" y="929"/>
                      </a:lnTo>
                      <a:lnTo>
                        <a:pt x="1867" y="1024"/>
                      </a:lnTo>
                      <a:lnTo>
                        <a:pt x="1854" y="1117"/>
                      </a:lnTo>
                      <a:lnTo>
                        <a:pt x="1831" y="1208"/>
                      </a:lnTo>
                      <a:lnTo>
                        <a:pt x="1800" y="1294"/>
                      </a:lnTo>
                      <a:lnTo>
                        <a:pt x="1761" y="1376"/>
                      </a:lnTo>
                      <a:lnTo>
                        <a:pt x="1715" y="1453"/>
                      </a:lnTo>
                      <a:lnTo>
                        <a:pt x="1607" y="1587"/>
                      </a:lnTo>
                      <a:cubicBezTo>
                        <a:pt x="1601" y="1595"/>
                        <a:pt x="1595" y="1601"/>
                        <a:pt x="1587" y="1607"/>
                      </a:cubicBezTo>
                      <a:lnTo>
                        <a:pt x="1468" y="1704"/>
                      </a:lnTo>
                      <a:lnTo>
                        <a:pt x="1387" y="1755"/>
                      </a:lnTo>
                      <a:lnTo>
                        <a:pt x="1306" y="1795"/>
                      </a:lnTo>
                      <a:lnTo>
                        <a:pt x="1221" y="1827"/>
                      </a:lnTo>
                      <a:lnTo>
                        <a:pt x="1131" y="1851"/>
                      </a:lnTo>
                      <a:lnTo>
                        <a:pt x="1038" y="1866"/>
                      </a:lnTo>
                      <a:lnTo>
                        <a:pt x="942" y="1871"/>
                      </a:lnTo>
                      <a:lnTo>
                        <a:pt x="847" y="1867"/>
                      </a:lnTo>
                      <a:lnTo>
                        <a:pt x="754" y="1854"/>
                      </a:lnTo>
                      <a:lnTo>
                        <a:pt x="663" y="1831"/>
                      </a:lnTo>
                      <a:lnTo>
                        <a:pt x="577" y="1800"/>
                      </a:lnTo>
                      <a:lnTo>
                        <a:pt x="495" y="1761"/>
                      </a:lnTo>
                      <a:lnTo>
                        <a:pt x="418" y="1715"/>
                      </a:lnTo>
                      <a:cubicBezTo>
                        <a:pt x="412" y="1711"/>
                        <a:pt x="407" y="1708"/>
                        <a:pt x="402" y="1704"/>
                      </a:cubicBezTo>
                      <a:lnTo>
                        <a:pt x="284" y="1607"/>
                      </a:lnTo>
                      <a:cubicBezTo>
                        <a:pt x="277" y="1601"/>
                        <a:pt x="271" y="1595"/>
                        <a:pt x="265" y="1588"/>
                      </a:cubicBezTo>
                      <a:lnTo>
                        <a:pt x="167" y="1469"/>
                      </a:lnTo>
                      <a:cubicBezTo>
                        <a:pt x="163" y="1464"/>
                        <a:pt x="160" y="1459"/>
                        <a:pt x="156" y="1453"/>
                      </a:cubicBezTo>
                      <a:lnTo>
                        <a:pt x="116" y="1387"/>
                      </a:lnTo>
                      <a:lnTo>
                        <a:pt x="76" y="1306"/>
                      </a:lnTo>
                      <a:lnTo>
                        <a:pt x="44" y="1221"/>
                      </a:lnTo>
                      <a:lnTo>
                        <a:pt x="20" y="1131"/>
                      </a:lnTo>
                      <a:lnTo>
                        <a:pt x="5" y="1038"/>
                      </a:lnTo>
                      <a:lnTo>
                        <a:pt x="0" y="942"/>
                      </a:lnTo>
                      <a:close/>
                      <a:moveTo>
                        <a:pt x="274" y="997"/>
                      </a:moveTo>
                      <a:lnTo>
                        <a:pt x="283" y="1062"/>
                      </a:lnTo>
                      <a:lnTo>
                        <a:pt x="299" y="1126"/>
                      </a:lnTo>
                      <a:lnTo>
                        <a:pt x="321" y="1187"/>
                      </a:lnTo>
                      <a:lnTo>
                        <a:pt x="349" y="1246"/>
                      </a:lnTo>
                      <a:lnTo>
                        <a:pt x="389" y="1312"/>
                      </a:lnTo>
                      <a:lnTo>
                        <a:pt x="377" y="1296"/>
                      </a:lnTo>
                      <a:lnTo>
                        <a:pt x="475" y="1415"/>
                      </a:lnTo>
                      <a:lnTo>
                        <a:pt x="457" y="1396"/>
                      </a:lnTo>
                      <a:lnTo>
                        <a:pt x="575" y="1493"/>
                      </a:lnTo>
                      <a:lnTo>
                        <a:pt x="559" y="1482"/>
                      </a:lnTo>
                      <a:lnTo>
                        <a:pt x="614" y="1516"/>
                      </a:lnTo>
                      <a:lnTo>
                        <a:pt x="672" y="1545"/>
                      </a:lnTo>
                      <a:lnTo>
                        <a:pt x="732" y="1568"/>
                      </a:lnTo>
                      <a:lnTo>
                        <a:pt x="795" y="1585"/>
                      </a:lnTo>
                      <a:lnTo>
                        <a:pt x="860" y="1596"/>
                      </a:lnTo>
                      <a:lnTo>
                        <a:pt x="929" y="1600"/>
                      </a:lnTo>
                      <a:lnTo>
                        <a:pt x="997" y="1597"/>
                      </a:lnTo>
                      <a:lnTo>
                        <a:pt x="1062" y="1588"/>
                      </a:lnTo>
                      <a:lnTo>
                        <a:pt x="1126" y="1572"/>
                      </a:lnTo>
                      <a:lnTo>
                        <a:pt x="1187" y="1550"/>
                      </a:lnTo>
                      <a:lnTo>
                        <a:pt x="1246" y="1522"/>
                      </a:lnTo>
                      <a:lnTo>
                        <a:pt x="1297" y="1493"/>
                      </a:lnTo>
                      <a:lnTo>
                        <a:pt x="1416" y="1396"/>
                      </a:lnTo>
                      <a:lnTo>
                        <a:pt x="1396" y="1416"/>
                      </a:lnTo>
                      <a:lnTo>
                        <a:pt x="1482" y="1312"/>
                      </a:lnTo>
                      <a:lnTo>
                        <a:pt x="1516" y="1257"/>
                      </a:lnTo>
                      <a:lnTo>
                        <a:pt x="1545" y="1199"/>
                      </a:lnTo>
                      <a:lnTo>
                        <a:pt x="1568" y="1139"/>
                      </a:lnTo>
                      <a:lnTo>
                        <a:pt x="1585" y="1076"/>
                      </a:lnTo>
                      <a:lnTo>
                        <a:pt x="1596" y="1011"/>
                      </a:lnTo>
                      <a:lnTo>
                        <a:pt x="1600" y="942"/>
                      </a:lnTo>
                      <a:lnTo>
                        <a:pt x="1597" y="874"/>
                      </a:lnTo>
                      <a:lnTo>
                        <a:pt x="1588" y="809"/>
                      </a:lnTo>
                      <a:lnTo>
                        <a:pt x="1572" y="745"/>
                      </a:lnTo>
                      <a:lnTo>
                        <a:pt x="1550" y="684"/>
                      </a:lnTo>
                      <a:lnTo>
                        <a:pt x="1522" y="625"/>
                      </a:lnTo>
                      <a:lnTo>
                        <a:pt x="1482" y="559"/>
                      </a:lnTo>
                      <a:lnTo>
                        <a:pt x="1493" y="575"/>
                      </a:lnTo>
                      <a:lnTo>
                        <a:pt x="1396" y="457"/>
                      </a:lnTo>
                      <a:lnTo>
                        <a:pt x="1415" y="475"/>
                      </a:lnTo>
                      <a:lnTo>
                        <a:pt x="1296" y="377"/>
                      </a:lnTo>
                      <a:lnTo>
                        <a:pt x="1312" y="389"/>
                      </a:lnTo>
                      <a:lnTo>
                        <a:pt x="1257" y="355"/>
                      </a:lnTo>
                      <a:lnTo>
                        <a:pt x="1199" y="326"/>
                      </a:lnTo>
                      <a:lnTo>
                        <a:pt x="1139" y="303"/>
                      </a:lnTo>
                      <a:lnTo>
                        <a:pt x="1076" y="286"/>
                      </a:lnTo>
                      <a:lnTo>
                        <a:pt x="1011" y="275"/>
                      </a:lnTo>
                      <a:lnTo>
                        <a:pt x="942" y="271"/>
                      </a:lnTo>
                      <a:lnTo>
                        <a:pt x="874" y="274"/>
                      </a:lnTo>
                      <a:lnTo>
                        <a:pt x="809" y="283"/>
                      </a:lnTo>
                      <a:lnTo>
                        <a:pt x="745" y="299"/>
                      </a:lnTo>
                      <a:lnTo>
                        <a:pt x="684" y="321"/>
                      </a:lnTo>
                      <a:lnTo>
                        <a:pt x="625" y="349"/>
                      </a:lnTo>
                      <a:lnTo>
                        <a:pt x="559" y="389"/>
                      </a:lnTo>
                      <a:lnTo>
                        <a:pt x="575" y="377"/>
                      </a:lnTo>
                      <a:lnTo>
                        <a:pt x="457" y="475"/>
                      </a:lnTo>
                      <a:lnTo>
                        <a:pt x="475" y="457"/>
                      </a:lnTo>
                      <a:lnTo>
                        <a:pt x="377" y="575"/>
                      </a:lnTo>
                      <a:lnTo>
                        <a:pt x="389" y="559"/>
                      </a:lnTo>
                      <a:lnTo>
                        <a:pt x="355" y="614"/>
                      </a:lnTo>
                      <a:lnTo>
                        <a:pt x="326" y="672"/>
                      </a:lnTo>
                      <a:lnTo>
                        <a:pt x="303" y="732"/>
                      </a:lnTo>
                      <a:lnTo>
                        <a:pt x="286" y="795"/>
                      </a:lnTo>
                      <a:lnTo>
                        <a:pt x="275" y="860"/>
                      </a:lnTo>
                      <a:lnTo>
                        <a:pt x="271" y="929"/>
                      </a:lnTo>
                      <a:lnTo>
                        <a:pt x="274" y="997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70"/>
                <p:cNvSpPr/>
                <p:nvPr/>
              </p:nvSpPr>
              <p:spPr>
                <a:xfrm>
                  <a:off x="3581640" y="2078280"/>
                  <a:ext cx="91080" cy="12600"/>
                </a:xfrm>
                <a:prstGeom prst="rect">
                  <a:avLst/>
                </a:prstGeom>
                <a:solidFill>
                  <a:srgbClr val="4a7ebb"/>
                </a:solidFill>
                <a:ln w="0">
                  <a:solidFill>
                    <a:srgbClr val="4a7eb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25"/>
              <p:cNvGrpSpPr/>
              <p:nvPr/>
            </p:nvGrpSpPr>
            <p:grpSpPr>
              <a:xfrm>
                <a:off x="3886560" y="1295280"/>
                <a:ext cx="380880" cy="1142640"/>
                <a:chOff x="3886560" y="1295280"/>
                <a:chExt cx="380880" cy="1142640"/>
              </a:xfrm>
            </p:grpSpPr>
            <p:cxnSp>
              <p:nvCxnSpPr>
                <p:cNvPr id="289" name="Straight Arrow Connector 99"/>
                <p:cNvCxnSpPr/>
                <p:nvPr/>
              </p:nvCxnSpPr>
              <p:spPr>
                <a:xfrm flipH="1" flipV="1">
                  <a:off x="4120920" y="19929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sp>
              <p:nvSpPr>
                <p:cNvPr id="290" name="Straight Connector 101"/>
                <p:cNvSpPr/>
                <p:nvPr/>
              </p:nvSpPr>
              <p:spPr>
                <a:xfrm>
                  <a:off x="412164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Straight Connector 102"/>
                <p:cNvSpPr/>
                <p:nvPr/>
              </p:nvSpPr>
              <p:spPr>
                <a:xfrm>
                  <a:off x="409140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2" name="Straight Arrow Connector 103"/>
                <p:cNvCxnSpPr/>
                <p:nvPr/>
              </p:nvCxnSpPr>
              <p:spPr>
                <a:xfrm flipH="1" flipV="1">
                  <a:off x="4120920" y="21517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3" name="Straight Connector 104"/>
                <p:cNvSpPr/>
                <p:nvPr/>
              </p:nvSpPr>
              <p:spPr>
                <a:xfrm>
                  <a:off x="4267440" y="170784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Straight Connector 105"/>
                <p:cNvSpPr/>
                <p:nvPr/>
              </p:nvSpPr>
              <p:spPr>
                <a:xfrm>
                  <a:off x="4267440" y="21524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5" name="Straight Arrow Connector 106"/>
                <p:cNvCxnSpPr/>
                <p:nvPr/>
              </p:nvCxnSpPr>
              <p:spPr>
                <a:xfrm flipH="1" flipV="1">
                  <a:off x="4120920" y="15483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sp>
              <p:nvSpPr>
                <p:cNvPr id="296" name="Straight Connector 107"/>
                <p:cNvSpPr/>
                <p:nvPr/>
              </p:nvSpPr>
              <p:spPr>
                <a:xfrm>
                  <a:off x="412164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08"/>
                <p:cNvSpPr/>
                <p:nvPr/>
              </p:nvSpPr>
              <p:spPr>
                <a:xfrm>
                  <a:off x="409140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8" name="Straight Arrow Connector 109"/>
                <p:cNvCxnSpPr/>
                <p:nvPr/>
              </p:nvCxnSpPr>
              <p:spPr>
                <a:xfrm flipH="1" flipV="1">
                  <a:off x="4120920" y="17071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9" name="Straight Connector 111"/>
                <p:cNvSpPr/>
                <p:nvPr/>
              </p:nvSpPr>
              <p:spPr>
                <a:xfrm>
                  <a:off x="4267440" y="1358640"/>
                  <a:ext cx="0" cy="1904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Straight Connector 115"/>
                <p:cNvSpPr/>
                <p:nvPr/>
              </p:nvSpPr>
              <p:spPr>
                <a:xfrm flipH="1">
                  <a:off x="3886560" y="1358640"/>
                  <a:ext cx="3808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Straight Connector 117"/>
                <p:cNvSpPr/>
                <p:nvPr/>
              </p:nvSpPr>
              <p:spPr>
                <a:xfrm>
                  <a:off x="3886560" y="13586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Straight Connector 119"/>
                <p:cNvSpPr/>
                <p:nvPr/>
              </p:nvSpPr>
              <p:spPr>
                <a:xfrm>
                  <a:off x="3886560" y="1644480"/>
                  <a:ext cx="20484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Straight Connector 121"/>
                <p:cNvSpPr/>
                <p:nvPr/>
              </p:nvSpPr>
              <p:spPr>
                <a:xfrm flipV="1">
                  <a:off x="4121640" y="1295280"/>
                  <a:ext cx="0" cy="6336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123"/>
                <p:cNvSpPr/>
                <p:nvPr/>
              </p:nvSpPr>
              <p:spPr>
                <a:xfrm>
                  <a:off x="4091400" y="1295280"/>
                  <a:ext cx="586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Straight Connector 134"/>
              <p:cNvSpPr/>
              <p:nvPr/>
            </p:nvSpPr>
            <p:spPr>
              <a:xfrm flipH="1">
                <a:off x="3821040" y="2097000"/>
                <a:ext cx="2696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Straight Connector 137"/>
              <p:cNvSpPr/>
              <p:nvPr/>
            </p:nvSpPr>
            <p:spPr>
              <a:xfrm flipV="1">
                <a:off x="3581640" y="1142640"/>
                <a:ext cx="0" cy="94140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139"/>
              <p:cNvSpPr/>
              <p:nvPr/>
            </p:nvSpPr>
            <p:spPr>
              <a:xfrm flipH="1">
                <a:off x="1904760" y="1143000"/>
                <a:ext cx="1676520" cy="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141"/>
              <p:cNvSpPr/>
              <p:nvPr/>
            </p:nvSpPr>
            <p:spPr>
              <a:xfrm>
                <a:off x="1905120" y="1143000"/>
                <a:ext cx="0" cy="129528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4343760" y="15238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9"/>
              <p:cNvSpPr/>
              <p:nvPr/>
            </p:nvSpPr>
            <p:spPr>
              <a:xfrm>
                <a:off x="4343760" y="2057400"/>
                <a:ext cx="30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P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1" name="Straight Arrow Connector 158"/>
            <p:cNvCxnSpPr/>
            <p:nvPr/>
          </p:nvCxnSpPr>
          <p:spPr>
            <a:xfrm flipH="1">
              <a:off x="4646160" y="1373040"/>
              <a:ext cx="3600" cy="915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12" name="Rectangle 59"/>
            <p:cNvSpPr/>
            <p:nvPr/>
          </p:nvSpPr>
          <p:spPr>
            <a:xfrm>
              <a:off x="4800600" y="167616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165"/>
            <p:cNvSpPr/>
            <p:nvPr/>
          </p:nvSpPr>
          <p:spPr>
            <a:xfrm>
              <a:off x="5562720" y="25909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66"/>
            <p:cNvSpPr/>
            <p:nvPr/>
          </p:nvSpPr>
          <p:spPr>
            <a:xfrm flipH="1" flipV="1">
              <a:off x="5943240" y="2590920"/>
              <a:ext cx="6858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67"/>
            <p:cNvSpPr/>
            <p:nvPr/>
          </p:nvSpPr>
          <p:spPr>
            <a:xfrm>
              <a:off x="6629400" y="30481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lock_stab_nom.emf"/>
          <p:cNvPicPr/>
          <p:nvPr/>
        </p:nvPicPr>
        <p:blipFill>
          <a:blip r:embed="rId1"/>
          <a:stretch/>
        </p:blipFill>
        <p:spPr>
          <a:xfrm>
            <a:off x="0" y="905040"/>
            <a:ext cx="6780240" cy="37432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0" y="444276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0-1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we do not get significant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20-9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lock_stab_nom_short.emf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726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152280" y="44686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20-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8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eriod of 5uS varies by 3nS over 7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temperatur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0" y="5184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best report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5"/>
          <p:cNvSpPr/>
          <p:nvPr/>
        </p:nvSpPr>
        <p:spPr>
          <a:xfrm>
            <a:off x="0" y="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Low power DCO -&gt; unco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o design an DCO working at 200Khz or lower, leakage current should be used [1-3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ther approach like hysteretic delay cell [24] etc. will result in more power because of higher caps required for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25"/>
          <p:cNvGrpSpPr/>
          <p:nvPr/>
        </p:nvGrpSpPr>
        <p:grpSpPr>
          <a:xfrm>
            <a:off x="685800" y="2438280"/>
            <a:ext cx="380880" cy="1142640"/>
            <a:chOff x="685800" y="2438280"/>
            <a:chExt cx="380880" cy="1142640"/>
          </a:xfrm>
        </p:grpSpPr>
        <p:cxnSp>
          <p:nvCxnSpPr>
            <p:cNvPr id="326" name="Straight Arrow Connector 115"/>
            <p:cNvCxnSpPr/>
            <p:nvPr/>
          </p:nvCxnSpPr>
          <p:spPr>
            <a:xfrm flipH="1" flipV="1">
              <a:off x="9201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27" name="Straight Connector 116"/>
            <p:cNvSpPr/>
            <p:nvPr/>
          </p:nvSpPr>
          <p:spPr>
            <a:xfrm>
              <a:off x="9208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117"/>
            <p:cNvSpPr/>
            <p:nvPr/>
          </p:nvSpPr>
          <p:spPr>
            <a:xfrm>
              <a:off x="8906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118"/>
            <p:cNvCxnSpPr/>
            <p:nvPr/>
          </p:nvCxnSpPr>
          <p:spPr>
            <a:xfrm flipH="1" flipV="1">
              <a:off x="9201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0" name="Straight Connector 119"/>
            <p:cNvSpPr/>
            <p:nvPr/>
          </p:nvSpPr>
          <p:spPr>
            <a:xfrm>
              <a:off x="10666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120"/>
            <p:cNvSpPr/>
            <p:nvPr/>
          </p:nvSpPr>
          <p:spPr>
            <a:xfrm>
              <a:off x="10666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121"/>
            <p:cNvCxnSpPr/>
            <p:nvPr/>
          </p:nvCxnSpPr>
          <p:spPr>
            <a:xfrm flipH="1" flipV="1">
              <a:off x="9201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33" name="Straight Connector 122"/>
            <p:cNvSpPr/>
            <p:nvPr/>
          </p:nvSpPr>
          <p:spPr>
            <a:xfrm>
              <a:off x="9208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23"/>
            <p:cNvSpPr/>
            <p:nvPr/>
          </p:nvSpPr>
          <p:spPr>
            <a:xfrm>
              <a:off x="8906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124"/>
            <p:cNvCxnSpPr/>
            <p:nvPr/>
          </p:nvCxnSpPr>
          <p:spPr>
            <a:xfrm flipH="1" flipV="1">
              <a:off x="9201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6" name="Straight Connector 125"/>
            <p:cNvSpPr/>
            <p:nvPr/>
          </p:nvSpPr>
          <p:spPr>
            <a:xfrm>
              <a:off x="10666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126"/>
            <p:cNvSpPr/>
            <p:nvPr/>
          </p:nvSpPr>
          <p:spPr>
            <a:xfrm flipH="1">
              <a:off x="6858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127"/>
            <p:cNvSpPr/>
            <p:nvPr/>
          </p:nvSpPr>
          <p:spPr>
            <a:xfrm>
              <a:off x="6858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128"/>
            <p:cNvSpPr/>
            <p:nvPr/>
          </p:nvSpPr>
          <p:spPr>
            <a:xfrm>
              <a:off x="6858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traight Connector 129"/>
            <p:cNvSpPr/>
            <p:nvPr/>
          </p:nvSpPr>
          <p:spPr>
            <a:xfrm flipV="1">
              <a:off x="9208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traight Connector 130"/>
            <p:cNvSpPr/>
            <p:nvPr/>
          </p:nvSpPr>
          <p:spPr>
            <a:xfrm>
              <a:off x="8906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Straight Connector 109"/>
          <p:cNvSpPr/>
          <p:nvPr/>
        </p:nvSpPr>
        <p:spPr>
          <a:xfrm flipH="1">
            <a:off x="6206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63"/>
          <p:cNvSpPr/>
          <p:nvPr/>
        </p:nvSpPr>
        <p:spPr>
          <a:xfrm>
            <a:off x="1066680" y="3581280"/>
            <a:ext cx="297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25"/>
          <p:cNvGrpSpPr/>
          <p:nvPr/>
        </p:nvGrpSpPr>
        <p:grpSpPr>
          <a:xfrm>
            <a:off x="1600200" y="2438280"/>
            <a:ext cx="380880" cy="1142640"/>
            <a:chOff x="1600200" y="2438280"/>
            <a:chExt cx="380880" cy="1142640"/>
          </a:xfrm>
        </p:grpSpPr>
        <p:cxnSp>
          <p:nvCxnSpPr>
            <p:cNvPr id="345" name="Straight Arrow Connector 165"/>
            <p:cNvCxnSpPr/>
            <p:nvPr/>
          </p:nvCxnSpPr>
          <p:spPr>
            <a:xfrm flipH="1" flipV="1">
              <a:off x="18345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46" name="Straight Connector 166"/>
            <p:cNvSpPr/>
            <p:nvPr/>
          </p:nvSpPr>
          <p:spPr>
            <a:xfrm>
              <a:off x="18352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167"/>
            <p:cNvSpPr/>
            <p:nvPr/>
          </p:nvSpPr>
          <p:spPr>
            <a:xfrm>
              <a:off x="18050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68"/>
            <p:cNvCxnSpPr/>
            <p:nvPr/>
          </p:nvCxnSpPr>
          <p:spPr>
            <a:xfrm flipH="1" flipV="1">
              <a:off x="18345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49" name="Straight Connector 169"/>
            <p:cNvSpPr/>
            <p:nvPr/>
          </p:nvSpPr>
          <p:spPr>
            <a:xfrm>
              <a:off x="19810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170"/>
            <p:cNvSpPr/>
            <p:nvPr/>
          </p:nvSpPr>
          <p:spPr>
            <a:xfrm>
              <a:off x="19810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171"/>
            <p:cNvCxnSpPr/>
            <p:nvPr/>
          </p:nvCxnSpPr>
          <p:spPr>
            <a:xfrm flipH="1" flipV="1">
              <a:off x="18345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52" name="Straight Connector 172"/>
            <p:cNvSpPr/>
            <p:nvPr/>
          </p:nvSpPr>
          <p:spPr>
            <a:xfrm>
              <a:off x="18352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traight Connector 173"/>
            <p:cNvSpPr/>
            <p:nvPr/>
          </p:nvSpPr>
          <p:spPr>
            <a:xfrm>
              <a:off x="18050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174"/>
            <p:cNvCxnSpPr/>
            <p:nvPr/>
          </p:nvCxnSpPr>
          <p:spPr>
            <a:xfrm flipH="1" flipV="1">
              <a:off x="18345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55" name="Straight Connector 175"/>
            <p:cNvSpPr/>
            <p:nvPr/>
          </p:nvSpPr>
          <p:spPr>
            <a:xfrm>
              <a:off x="19810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176"/>
            <p:cNvSpPr/>
            <p:nvPr/>
          </p:nvSpPr>
          <p:spPr>
            <a:xfrm flipH="1">
              <a:off x="16002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177"/>
            <p:cNvSpPr/>
            <p:nvPr/>
          </p:nvSpPr>
          <p:spPr>
            <a:xfrm>
              <a:off x="16002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178"/>
            <p:cNvSpPr/>
            <p:nvPr/>
          </p:nvSpPr>
          <p:spPr>
            <a:xfrm>
              <a:off x="16002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179"/>
            <p:cNvSpPr/>
            <p:nvPr/>
          </p:nvSpPr>
          <p:spPr>
            <a:xfrm flipV="1">
              <a:off x="18352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180"/>
            <p:cNvSpPr/>
            <p:nvPr/>
          </p:nvSpPr>
          <p:spPr>
            <a:xfrm>
              <a:off x="18050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Straight Connector 181"/>
          <p:cNvSpPr/>
          <p:nvPr/>
        </p:nvSpPr>
        <p:spPr>
          <a:xfrm flipH="1">
            <a:off x="15350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5"/>
          <p:cNvGrpSpPr/>
          <p:nvPr/>
        </p:nvGrpSpPr>
        <p:grpSpPr>
          <a:xfrm>
            <a:off x="2819520" y="2438280"/>
            <a:ext cx="380880" cy="1142640"/>
            <a:chOff x="2819520" y="2438280"/>
            <a:chExt cx="380880" cy="1142640"/>
          </a:xfrm>
        </p:grpSpPr>
        <p:cxnSp>
          <p:nvCxnSpPr>
            <p:cNvPr id="363" name="Straight Arrow Connector 202"/>
            <p:cNvCxnSpPr/>
            <p:nvPr/>
          </p:nvCxnSpPr>
          <p:spPr>
            <a:xfrm flipH="1" flipV="1">
              <a:off x="305388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64" name="Straight Connector 203"/>
            <p:cNvSpPr/>
            <p:nvPr/>
          </p:nvSpPr>
          <p:spPr>
            <a:xfrm>
              <a:off x="305460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04"/>
            <p:cNvSpPr/>
            <p:nvPr/>
          </p:nvSpPr>
          <p:spPr>
            <a:xfrm>
              <a:off x="302436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205"/>
            <p:cNvCxnSpPr/>
            <p:nvPr/>
          </p:nvCxnSpPr>
          <p:spPr>
            <a:xfrm flipH="1" flipV="1">
              <a:off x="305388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67" name="Straight Connector 206"/>
            <p:cNvSpPr/>
            <p:nvPr/>
          </p:nvSpPr>
          <p:spPr>
            <a:xfrm>
              <a:off x="320040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traight Connector 207"/>
            <p:cNvSpPr/>
            <p:nvPr/>
          </p:nvSpPr>
          <p:spPr>
            <a:xfrm>
              <a:off x="320040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208"/>
            <p:cNvCxnSpPr/>
            <p:nvPr/>
          </p:nvCxnSpPr>
          <p:spPr>
            <a:xfrm flipH="1" flipV="1">
              <a:off x="305388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70" name="Straight Connector 209"/>
            <p:cNvSpPr/>
            <p:nvPr/>
          </p:nvSpPr>
          <p:spPr>
            <a:xfrm>
              <a:off x="305460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10"/>
            <p:cNvSpPr/>
            <p:nvPr/>
          </p:nvSpPr>
          <p:spPr>
            <a:xfrm>
              <a:off x="302436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211"/>
            <p:cNvCxnSpPr/>
            <p:nvPr/>
          </p:nvCxnSpPr>
          <p:spPr>
            <a:xfrm flipH="1" flipV="1">
              <a:off x="305388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73" name="Straight Connector 212"/>
            <p:cNvSpPr/>
            <p:nvPr/>
          </p:nvSpPr>
          <p:spPr>
            <a:xfrm>
              <a:off x="320040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213"/>
            <p:cNvSpPr/>
            <p:nvPr/>
          </p:nvSpPr>
          <p:spPr>
            <a:xfrm flipH="1">
              <a:off x="281952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214"/>
            <p:cNvSpPr/>
            <p:nvPr/>
          </p:nvSpPr>
          <p:spPr>
            <a:xfrm>
              <a:off x="281952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15"/>
            <p:cNvSpPr/>
            <p:nvPr/>
          </p:nvSpPr>
          <p:spPr>
            <a:xfrm>
              <a:off x="281952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16"/>
            <p:cNvSpPr/>
            <p:nvPr/>
          </p:nvSpPr>
          <p:spPr>
            <a:xfrm flipV="1">
              <a:off x="305460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217"/>
            <p:cNvSpPr/>
            <p:nvPr/>
          </p:nvSpPr>
          <p:spPr>
            <a:xfrm>
              <a:off x="302436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traight Connector 218"/>
          <p:cNvSpPr/>
          <p:nvPr/>
        </p:nvSpPr>
        <p:spPr>
          <a:xfrm flipH="1">
            <a:off x="275436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223"/>
          <p:cNvCxnSpPr/>
          <p:nvPr/>
        </p:nvCxnSpPr>
        <p:spPr>
          <a:xfrm flipH="1" flipV="1">
            <a:off x="2139480" y="386676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81" name="Straight Connector 224"/>
          <p:cNvSpPr/>
          <p:nvPr/>
        </p:nvSpPr>
        <p:spPr>
          <a:xfrm>
            <a:off x="213984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25"/>
          <p:cNvSpPr/>
          <p:nvPr/>
        </p:nvSpPr>
        <p:spPr>
          <a:xfrm>
            <a:off x="210996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226"/>
          <p:cNvCxnSpPr/>
          <p:nvPr/>
        </p:nvCxnSpPr>
        <p:spPr>
          <a:xfrm flipH="1" flipV="1">
            <a:off x="2139480" y="402552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384" name="Straight Connector 227"/>
          <p:cNvSpPr/>
          <p:nvPr/>
        </p:nvSpPr>
        <p:spPr>
          <a:xfrm>
            <a:off x="2286000" y="3581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228"/>
          <p:cNvSpPr/>
          <p:nvPr/>
        </p:nvSpPr>
        <p:spPr>
          <a:xfrm>
            <a:off x="2286000" y="40258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239"/>
          <p:cNvSpPr/>
          <p:nvPr/>
        </p:nvSpPr>
        <p:spPr>
          <a:xfrm flipH="1">
            <a:off x="1839960" y="397044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6"/>
          <p:cNvSpPr/>
          <p:nvPr/>
        </p:nvSpPr>
        <p:spPr>
          <a:xfrm>
            <a:off x="2155680" y="4290840"/>
            <a:ext cx="28260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2212920" y="434808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2268360" y="4403880"/>
            <a:ext cx="57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6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47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60948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9"/>
          <p:cNvSpPr/>
          <p:nvPr/>
        </p:nvSpPr>
        <p:spPr>
          <a:xfrm>
            <a:off x="1447920" y="327672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274320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9"/>
          <p:cNvSpPr/>
          <p:nvPr/>
        </p:nvSpPr>
        <p:spPr>
          <a:xfrm>
            <a:off x="10666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9"/>
          <p:cNvSpPr/>
          <p:nvPr/>
        </p:nvSpPr>
        <p:spPr>
          <a:xfrm>
            <a:off x="19810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9"/>
          <p:cNvSpPr/>
          <p:nvPr/>
        </p:nvSpPr>
        <p:spPr>
          <a:xfrm>
            <a:off x="3276720" y="266688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4"/>
          <p:cNvSpPr/>
          <p:nvPr/>
        </p:nvSpPr>
        <p:spPr>
          <a:xfrm>
            <a:off x="4038480" y="2286000"/>
            <a:ext cx="914400" cy="22860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3529080" y="358776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3422520" y="3862440"/>
            <a:ext cx="22572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4"/>
          <p:cNvSpPr/>
          <p:nvPr/>
        </p:nvSpPr>
        <p:spPr>
          <a:xfrm>
            <a:off x="3422520" y="3919680"/>
            <a:ext cx="22572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5"/>
          <p:cNvSpPr/>
          <p:nvPr/>
        </p:nvSpPr>
        <p:spPr>
          <a:xfrm>
            <a:off x="3529080" y="392580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6"/>
          <p:cNvSpPr/>
          <p:nvPr/>
        </p:nvSpPr>
        <p:spPr>
          <a:xfrm>
            <a:off x="3387600" y="4538520"/>
            <a:ext cx="2826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3444840" y="459576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8"/>
          <p:cNvSpPr/>
          <p:nvPr/>
        </p:nvSpPr>
        <p:spPr>
          <a:xfrm>
            <a:off x="3500280" y="4651200"/>
            <a:ext cx="5724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6915240" y="3332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"/>
          <p:cNvSpPr/>
          <p:nvPr/>
        </p:nvSpPr>
        <p:spPr>
          <a:xfrm>
            <a:off x="7251840" y="3502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264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Straight Arrow Connector 269"/>
          <p:cNvCxnSpPr/>
          <p:nvPr/>
        </p:nvCxnSpPr>
        <p:spPr>
          <a:xfrm flipH="1" flipV="1">
            <a:off x="5754240" y="3123360"/>
            <a:ext cx="1483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410" name="Straight Connector 270"/>
          <p:cNvSpPr/>
          <p:nvPr/>
        </p:nvSpPr>
        <p:spPr>
          <a:xfrm>
            <a:off x="595008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271"/>
          <p:cNvSpPr/>
          <p:nvPr/>
        </p:nvSpPr>
        <p:spPr>
          <a:xfrm>
            <a:off x="591984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72"/>
          <p:cNvCxnSpPr/>
          <p:nvPr/>
        </p:nvCxnSpPr>
        <p:spPr>
          <a:xfrm flipH="1" flipV="1">
            <a:off x="5774760" y="3276000"/>
            <a:ext cx="1465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3" name="Straight Connector 273"/>
          <p:cNvSpPr/>
          <p:nvPr/>
        </p:nvSpPr>
        <p:spPr>
          <a:xfrm>
            <a:off x="5746680" y="2843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74"/>
          <p:cNvSpPr/>
          <p:nvPr/>
        </p:nvSpPr>
        <p:spPr>
          <a:xfrm>
            <a:off x="5775480" y="327672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85"/>
          <p:cNvSpPr/>
          <p:nvPr/>
        </p:nvSpPr>
        <p:spPr>
          <a:xfrm flipH="1">
            <a:off x="5662440" y="2843280"/>
            <a:ext cx="152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288"/>
          <p:cNvCxnSpPr/>
          <p:nvPr/>
        </p:nvCxnSpPr>
        <p:spPr>
          <a:xfrm flipH="1" flipV="1">
            <a:off x="5943240" y="320004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7" name="Straight Connector 291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293"/>
          <p:cNvSpPr/>
          <p:nvPr/>
        </p:nvSpPr>
        <p:spPr>
          <a:xfrm flipH="1">
            <a:off x="7391520" y="3581280"/>
            <a:ext cx="761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6172200" y="3962520"/>
            <a:ext cx="14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eper to obtain full r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0" y="494316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elay is constructed using binary weights of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Uses LVT transistor for leakag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"/>
          <p:cNvSpPr/>
          <p:nvPr/>
        </p:nvSpPr>
        <p:spPr>
          <a:xfrm>
            <a:off x="8153280" y="335268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99"/>
          <p:cNvSpPr/>
          <p:nvPr/>
        </p:nvSpPr>
        <p:spPr>
          <a:xfrm>
            <a:off x="8518680" y="3589200"/>
            <a:ext cx="304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01"/>
          <p:cNvSpPr/>
          <p:nvPr/>
        </p:nvSpPr>
        <p:spPr>
          <a:xfrm>
            <a:off x="8839080" y="3589200"/>
            <a:ext cx="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04"/>
          <p:cNvSpPr/>
          <p:nvPr/>
        </p:nvSpPr>
        <p:spPr>
          <a:xfrm flipH="1">
            <a:off x="1828440" y="4960800"/>
            <a:ext cx="7010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5"/>
          <p:cNvSpPr/>
          <p:nvPr/>
        </p:nvSpPr>
        <p:spPr>
          <a:xfrm>
            <a:off x="1828800" y="3970440"/>
            <a:ext cx="0" cy="990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849600"/>
            <a:ext cx="84582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stability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or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 and 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Bac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0" y="82656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Same calibration techniqu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LP_Calibration.png"/>
          <p:cNvPicPr/>
          <p:nvPr/>
        </p:nvPicPr>
        <p:blipFill>
          <a:blip r:embed="rId2"/>
          <a:stretch/>
        </p:blipFill>
        <p:spPr>
          <a:xfrm>
            <a:off x="0" y="1305000"/>
            <a:ext cx="708660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LP_settled.png"/>
          <p:cNvPicPr/>
          <p:nvPr/>
        </p:nvPicPr>
        <p:blipFill>
          <a:blip r:embed="rId3"/>
          <a:stretch/>
        </p:blipFill>
        <p:spPr>
          <a:xfrm>
            <a:off x="0" y="1305000"/>
            <a:ext cx="7157880" cy="3571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0" y="520344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+/-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his architecture does not have good stability w.r.t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Power2.emf"/>
          <p:cNvPicPr/>
          <p:nvPr/>
        </p:nvPicPr>
        <p:blipFill>
          <a:blip r:embed="rId1"/>
          <a:stretch/>
        </p:blipFill>
        <p:spPr>
          <a:xfrm>
            <a:off x="0" y="533520"/>
            <a:ext cx="7194600" cy="39718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0" y="45946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ed DCO consumes 2uW, uncompensated DCO consumes 70n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Results are in line with the trend, lower than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stab_new_1.emf"/>
          <p:cNvPicPr/>
          <p:nvPr/>
        </p:nvPicPr>
        <p:blipFill>
          <a:blip r:embed="rId1"/>
          <a:stretch/>
        </p:blipFill>
        <p:spPr>
          <a:xfrm>
            <a:off x="0" y="53352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0" y="4671360"/>
            <a:ext cx="91440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compensated oscillator is 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report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~4S variation of clock period in a day for a change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0" y="906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In-phase output using very simple calibration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less than 2uW of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ed a leakage current based ultra low power D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sensor node can decide what type of clock it needs, based on power or stability crite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1"/>
          <p:cNvSpPr/>
          <p:nvPr/>
        </p:nvSpPr>
        <p:spPr>
          <a:xfrm>
            <a:off x="0" y="6858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] Y.-S. Lin, D. Sylvester, and D. Blaauw, “A Sub-pW Timer Using Gate Leakage for Ultra Low-Power Sub-Hz Monitoring Systems,” IEEE Custom Integrated Circuits Conf., pp.397-400, Sept., 200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] Yu-Shiang Lin; Sylvester, D.M.; Blaauw, D.T. “A 150pW program-and-hold timer for ultra-low-power sensor platforms” Solid-State Circuits Conference - Digest of Technical Papers, 2009. ISSCC 2009. IEEE 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3] Yoonmyung Lee, Bharan Giridhar, Zhiyoong Foo, Dennis Sylvester, David Blaauw, “A 660pW Multi-stage Temperature Compensated Timer for Ultra-low Power Wireless Sensor Node Synchronization,”IEEE International Solid-State Circuit Conference (ISSCC), Februar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4]X. Zou, X. Xu, L. Yao, and Y. Lian, “A 1-V 450-nW fully integrated programmable biomedical sensor interface chip,” IEEE Journal of  Solid-State Circuits, vol.44, no.4, Apr. 2009, pp.1067-107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5] K. Choe, O. D. Bernal, D. Nuttman, and M. Je, “A precision relaxation oscillator with a self-clocked offset-cancellation scheme for implantable biomedical SoCs,” in IEEE ISSCC Dig. Tech. Papers, Feb. 2009, pp. 402–4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6] Shu-Yu Hsu; Jui-Yuan Yu; Chen-Yi Lee; , "A Sub-10-μW Digitally Controlled Oscillator Based on Hysteresis Delay Cell Topologies for WBAN Applications," Circuits and Systems II: Express Briefs, IEEE Transactions on , vol.57, no.12, pp.951-955, Dec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7] Man-Chia Chen; Jui-Yuan Yu; Chen-Yi Lee; , "A sub-100μW area-efficient digitally-controlled oscillator based on hysteresis delay cell topologies," Solid-State Circuits Conference, 2009. A-SSCC 2009. IEEE Asian, vol., no., pp.89-92, 16-18 Nov.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8] An On-Chip CMOS Relaxation Oscillator With Voltage Averaging Feedback Tokunaga, Y.; Sakiyama, S.; Matsumoto, A.; Dosho, S.; Solid-State Circuits, IEEE Journal of Volume: 45 , Issue: 6 Publication Year: 2010 , Page(s): 1150 – 1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9] C.-Y. Yu, J.-Y. Yu, and C.-Y. Lee, “An eCrystal oscillator with selfcalibration capability,” in Proc. IEEE Int. Symp. Circuits and Systems (ISCAS), 2009, pp. 237–2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0] Y.-S. Shyu and J.-C. Wu, “A process and temperature compensated ring oscillator,” in Proc. 1st IEEE Asia Pacific Conf., 1999, pp. 283–28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1] J. Routama, K. Koli, and K. Halonen, “A novel ring-oscillator with a very small process and temperature variation,” in Proc. IEEE Int. Symp. Circuits and Systems (ISCAS’98), 1998, vol. 1, pp. 181–18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K. Sundaresan, K. C. Brouse, K. U-Yen, F. Ayazi, and P. E. Allen, “A 7-MHz process, temperature and supply compensated clock oscillator in 0.25 ìm CMOS,” in Proc. 2003 Int. Symp. Circuits and Systems (ISCAS’03), 2003, vol. 1, pp. I-693–I-69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R. Vijayaraghavan, S. K. Islam, M. R. Haider, and L. Zuo, “Wideband injection-locked frequency divider based on a process and temperature compensated ring oscillator,” IET Circuits, Devices &amp; Syst., vol. 3, pp. 259–267,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3] G. De Vita, F. Marraccini, and G. Iannaccone, “Low-voltage low-power CMOS oscillator with low temperature and process sensitivity,” in Proc. IEEE Int. Symp. Circuits and Systems (ISCAS 2007), 2007, pp. 2152–215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4] K. R. Lakshmikumar, V. Mukundagiri, and S. L. J. Gierkink, “A process and temperature compensated two-stage ring oscillator,” in Proc. IEEE Custom Integrated Circuits Conf. (CICC’07), 2007, pp. 691–6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5]Vittoz, E.A., Degrauwe, M.G.R. and Bitz, S.   High-performance crystal oscillator circuits: theory and application. IEEE journal of Solid-State Circuits, 23, 5 (Jun 1988), 774-78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6]Van Helleputte, N. , Gielen, G. An Ultra-low-Power Quadrature PLL in 130nm CMOS for Impulse Radio Receivers. Biomedical Circuits and Systems Conference, 2007. BIOCAS 2007. IEEE, 23, 5 (Nov 2007), 63-6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7]Gundel, A. , Carr, W.N. , Ultra Low Power CMOS PLL Clock Synthesizer for Wireless Sensor Nodes  Circuits and Systems, 2007. ISCAS 2007. IEEE International Symposium on (May 2007), 3059-306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8]S Drago, et al, Nai-Heng Tseng.  A 200μA Duty-Cycled PLL for Wireless Sensor Nodes in 65 nm CMOS. JSSCC July 20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9]A Djemouai et al. “New Frequency Locked Loop based CMOS frequency to voltage converter: Design and Implementation” IEEE Transactions on Circuits and systme  II: Analog and Digital Signal Processing. vol. 48 No-5, May 200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0]Kansal, A. , Srivastava, M.B. , An environmental energy harvesting framework for sensor network. Low Power Electronics and Design, 2003. ISLPED '03. Proceedings of the 2003 International Symposium on, 23, 5 (Aug-2003), 481-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1]D. Liu et al. “A simple voltage reference circuit using transistor with ZTC point and PTAT current source” IEEE J Solid-State Circuits vol. 29 pp 663-      670, June 19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2] Chang, Hsiang-Hui ; Fu, Chia-Huang ; Chiu, Monty ;  “A 320fs-RMS-jitter and 300kHz-BW all-digital fractional-N PLL with self-corrected TDC and fast temperature tacking loop for WiMax/WLAN 11n”  VLSI Circuits, 2009 Symposium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3] T. Matano, Y. Takai, T. Takahashi, Y. Sakito, I. Fujii, Y. Takaishi, H. Fujisawa, S. Kubouchi, S. Narui, K. Arai, M. morino, M. Nakamura, S. Miyatake, T. Sekiguchi, and K. Koyama, “A 1-Gb/s/pin 512-Mb DDRII SDRAM using a digital DLL and a slew-rate-controlled output buffer,” IEEE J. Solid-State Circuits, vol. 38, no. 5, pp. 762-768, May 20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TA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52280" y="11404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op transistors are in strong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ottom transistor are in weak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5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rocess variation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Straight Arrow Connector 5"/>
          <p:cNvCxnSpPr/>
          <p:nvPr/>
        </p:nvCxnSpPr>
        <p:spPr>
          <a:xfrm flipV="1">
            <a:off x="7543800" y="3504960"/>
            <a:ext cx="457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9" name="TextBox 6"/>
          <p:cNvSpPr/>
          <p:nvPr/>
        </p:nvSpPr>
        <p:spPr>
          <a:xfrm>
            <a:off x="380880" y="4773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ariation causes the current source to move from i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ICOMP_strong.png"/>
          <p:cNvPicPr/>
          <p:nvPr/>
        </p:nvPicPr>
        <p:blipFill>
          <a:blip r:embed="rId2"/>
          <a:stretch/>
        </p:blipFill>
        <p:spPr>
          <a:xfrm>
            <a:off x="228600" y="1143000"/>
            <a:ext cx="5724360" cy="373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COMP_weak.png"/>
          <p:cNvPicPr/>
          <p:nvPr/>
        </p:nvPicPr>
        <p:blipFill>
          <a:blip r:embed="rId3"/>
          <a:stretch/>
        </p:blipFill>
        <p:spPr>
          <a:xfrm>
            <a:off x="0" y="114300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9"/>
          <p:cNvSpPr/>
          <p:nvPr/>
        </p:nvSpPr>
        <p:spPr>
          <a:xfrm>
            <a:off x="78487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bit control on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ICOMP_Cross_corner.png"/>
          <p:cNvPicPr/>
          <p:nvPr/>
        </p:nvPicPr>
        <p:blipFill>
          <a:blip r:embed="rId4"/>
          <a:stretch/>
        </p:blipFill>
        <p:spPr>
          <a:xfrm>
            <a:off x="0" y="106668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380880" y="5181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bit control on resistor yields ide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088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tch can also be handled in the simila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Jitter on th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eye_diagra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43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380880" y="54100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2nS of jitter seen on clock over 100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494080" y="1681200"/>
            <a:ext cx="303120" cy="415800"/>
          </a:xfrm>
          <a:custGeom>
            <a:avLst/>
            <a:gdLst>
              <a:gd name="textAreaLeft" fmla="*/ 0 w 303120"/>
              <a:gd name="textAreaRight" fmla="*/ 303480 w 303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70"/>
                </a:lnTo>
                <a:lnTo>
                  <a:pt x="16" y="59"/>
                </a:lnTo>
                <a:lnTo>
                  <a:pt x="21" y="49"/>
                </a:lnTo>
                <a:lnTo>
                  <a:pt x="27" y="40"/>
                </a:lnTo>
                <a:lnTo>
                  <a:pt x="34" y="31"/>
                </a:lnTo>
                <a:lnTo>
                  <a:pt x="41" y="23"/>
                </a:lnTo>
                <a:lnTo>
                  <a:pt x="49" y="17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2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1"/>
                </a:lnTo>
                <a:lnTo>
                  <a:pt x="110" y="2"/>
                </a:lnTo>
                <a:lnTo>
                  <a:pt x="115" y="3"/>
                </a:lnTo>
                <a:lnTo>
                  <a:pt x="119" y="4"/>
                </a:lnTo>
                <a:lnTo>
                  <a:pt x="124" y="6"/>
                </a:lnTo>
                <a:lnTo>
                  <a:pt x="129" y="8"/>
                </a:lnTo>
                <a:lnTo>
                  <a:pt x="133" y="11"/>
                </a:lnTo>
                <a:lnTo>
                  <a:pt x="141" y="16"/>
                </a:lnTo>
                <a:lnTo>
                  <a:pt x="149" y="23"/>
                </a:lnTo>
                <a:lnTo>
                  <a:pt x="156" y="31"/>
                </a:lnTo>
                <a:lnTo>
                  <a:pt x="163" y="39"/>
                </a:lnTo>
                <a:lnTo>
                  <a:pt x="169" y="48"/>
                </a:lnTo>
                <a:lnTo>
                  <a:pt x="175" y="59"/>
                </a:lnTo>
                <a:lnTo>
                  <a:pt x="179" y="69"/>
                </a:lnTo>
                <a:lnTo>
                  <a:pt x="183" y="81"/>
                </a:lnTo>
                <a:lnTo>
                  <a:pt x="186" y="93"/>
                </a:lnTo>
                <a:lnTo>
                  <a:pt x="189" y="105"/>
                </a:lnTo>
                <a:lnTo>
                  <a:pt x="190" y="118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3"/>
                </a:lnTo>
                <a:lnTo>
                  <a:pt x="175" y="203"/>
                </a:lnTo>
                <a:lnTo>
                  <a:pt x="170" y="213"/>
                </a:lnTo>
                <a:lnTo>
                  <a:pt x="164" y="223"/>
                </a:lnTo>
                <a:lnTo>
                  <a:pt x="157" y="231"/>
                </a:lnTo>
                <a:lnTo>
                  <a:pt x="150" y="239"/>
                </a:lnTo>
                <a:lnTo>
                  <a:pt x="142" y="246"/>
                </a:lnTo>
                <a:lnTo>
                  <a:pt x="134" y="251"/>
                </a:lnTo>
                <a:lnTo>
                  <a:pt x="129" y="254"/>
                </a:lnTo>
                <a:lnTo>
                  <a:pt x="124" y="256"/>
                </a:lnTo>
                <a:lnTo>
                  <a:pt x="120" y="258"/>
                </a:lnTo>
                <a:lnTo>
                  <a:pt x="115" y="259"/>
                </a:lnTo>
                <a:lnTo>
                  <a:pt x="110" y="261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2"/>
                </a:lnTo>
                <a:lnTo>
                  <a:pt x="81" y="261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2"/>
                </a:lnTo>
                <a:lnTo>
                  <a:pt x="49" y="246"/>
                </a:lnTo>
                <a:lnTo>
                  <a:pt x="41" y="239"/>
                </a:lnTo>
                <a:lnTo>
                  <a:pt x="34" y="232"/>
                </a:lnTo>
                <a:lnTo>
                  <a:pt x="27" y="223"/>
                </a:lnTo>
                <a:lnTo>
                  <a:pt x="21" y="214"/>
                </a:lnTo>
                <a:lnTo>
                  <a:pt x="16" y="204"/>
                </a:lnTo>
                <a:lnTo>
                  <a:pt x="11" y="193"/>
                </a:lnTo>
                <a:lnTo>
                  <a:pt x="7" y="182"/>
                </a:lnTo>
                <a:lnTo>
                  <a:pt x="4" y="170"/>
                </a:lnTo>
                <a:lnTo>
                  <a:pt x="2" y="157"/>
                </a:lnTo>
                <a:lnTo>
                  <a:pt x="0" y="145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8"/>
                </a:lnTo>
                <a:lnTo>
                  <a:pt x="28" y="197"/>
                </a:lnTo>
                <a:lnTo>
                  <a:pt x="33" y="207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5"/>
                </a:lnTo>
                <a:lnTo>
                  <a:pt x="64" y="240"/>
                </a:lnTo>
                <a:lnTo>
                  <a:pt x="68" y="242"/>
                </a:lnTo>
                <a:lnTo>
                  <a:pt x="71" y="244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9"/>
                </a:lnTo>
                <a:lnTo>
                  <a:pt x="95" y="249"/>
                </a:lnTo>
                <a:lnTo>
                  <a:pt x="99" y="249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4"/>
                </a:lnTo>
                <a:lnTo>
                  <a:pt x="122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30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8"/>
                </a:lnTo>
                <a:lnTo>
                  <a:pt x="173" y="167"/>
                </a:lnTo>
                <a:lnTo>
                  <a:pt x="175" y="155"/>
                </a:lnTo>
                <a:lnTo>
                  <a:pt x="177" y="144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5"/>
                </a:lnTo>
                <a:lnTo>
                  <a:pt x="163" y="65"/>
                </a:lnTo>
                <a:lnTo>
                  <a:pt x="158" y="56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3"/>
                </a:lnTo>
                <a:lnTo>
                  <a:pt x="123" y="21"/>
                </a:lnTo>
                <a:lnTo>
                  <a:pt x="119" y="19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4"/>
                </a:lnTo>
                <a:lnTo>
                  <a:pt x="95" y="14"/>
                </a:lnTo>
                <a:lnTo>
                  <a:pt x="91" y="14"/>
                </a:lnTo>
                <a:lnTo>
                  <a:pt x="87" y="14"/>
                </a:lnTo>
                <a:lnTo>
                  <a:pt x="83" y="15"/>
                </a:lnTo>
                <a:lnTo>
                  <a:pt x="79" y="16"/>
                </a:lnTo>
                <a:lnTo>
                  <a:pt x="76" y="17"/>
                </a:lnTo>
                <a:lnTo>
                  <a:pt x="72" y="19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3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7"/>
                </a:lnTo>
                <a:lnTo>
                  <a:pt x="14" y="119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2603520" y="1805040"/>
            <a:ext cx="98280" cy="225360"/>
          </a:xfrm>
          <a:custGeom>
            <a:avLst/>
            <a:gdLst>
              <a:gd name="textAreaLeft" fmla="*/ 0 w 98280"/>
              <a:gd name="textAreaRight" fmla="*/ 98640 w 982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411" h="3201">
                <a:moveTo>
                  <a:pt x="868" y="1"/>
                </a:moveTo>
                <a:lnTo>
                  <a:pt x="853" y="2900"/>
                </a:lnTo>
                <a:lnTo>
                  <a:pt x="549" y="2899"/>
                </a:lnTo>
                <a:lnTo>
                  <a:pt x="564" y="0"/>
                </a:lnTo>
                <a:lnTo>
                  <a:pt x="868" y="1"/>
                </a:lnTo>
                <a:close/>
                <a:moveTo>
                  <a:pt x="1369" y="2068"/>
                </a:moveTo>
                <a:lnTo>
                  <a:pt x="699" y="3201"/>
                </a:lnTo>
                <a:lnTo>
                  <a:pt x="42" y="2061"/>
                </a:lnTo>
                <a:cubicBezTo>
                  <a:pt x="0" y="1988"/>
                  <a:pt x="25" y="1895"/>
                  <a:pt x="98" y="1853"/>
                </a:cubicBezTo>
                <a:cubicBezTo>
                  <a:pt x="171" y="1811"/>
                  <a:pt x="264" y="1836"/>
                  <a:pt x="305" y="1909"/>
                </a:cubicBezTo>
                <a:lnTo>
                  <a:pt x="833" y="2824"/>
                </a:lnTo>
                <a:lnTo>
                  <a:pt x="570" y="2822"/>
                </a:lnTo>
                <a:lnTo>
                  <a:pt x="1107" y="1913"/>
                </a:lnTo>
                <a:cubicBezTo>
                  <a:pt x="1150" y="1841"/>
                  <a:pt x="1243" y="1817"/>
                  <a:pt x="1315" y="1859"/>
                </a:cubicBezTo>
                <a:cubicBezTo>
                  <a:pt x="1387" y="1902"/>
                  <a:pt x="1411" y="1995"/>
                  <a:pt x="1369" y="2068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2638440" y="1467000"/>
            <a:ext cx="1440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2505240" y="1459080"/>
            <a:ext cx="28080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495520" y="2189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2652840" y="2085840"/>
            <a:ext cx="14040" cy="22572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494080" y="2752560"/>
            <a:ext cx="303120" cy="416160"/>
          </a:xfrm>
          <a:custGeom>
            <a:avLst/>
            <a:gdLst>
              <a:gd name="textAreaLeft" fmla="*/ 0 w 303120"/>
              <a:gd name="textAreaRight" fmla="*/ 303480 w 303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69"/>
                </a:lnTo>
                <a:lnTo>
                  <a:pt x="16" y="59"/>
                </a:lnTo>
                <a:lnTo>
                  <a:pt x="21" y="49"/>
                </a:lnTo>
                <a:lnTo>
                  <a:pt x="27" y="39"/>
                </a:lnTo>
                <a:lnTo>
                  <a:pt x="34" y="31"/>
                </a:lnTo>
                <a:lnTo>
                  <a:pt x="41" y="23"/>
                </a:lnTo>
                <a:lnTo>
                  <a:pt x="49" y="16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1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4" y="6"/>
                </a:lnTo>
                <a:lnTo>
                  <a:pt x="129" y="8"/>
                </a:lnTo>
                <a:lnTo>
                  <a:pt x="133" y="10"/>
                </a:lnTo>
                <a:lnTo>
                  <a:pt x="141" y="16"/>
                </a:lnTo>
                <a:lnTo>
                  <a:pt x="149" y="23"/>
                </a:lnTo>
                <a:lnTo>
                  <a:pt x="157" y="30"/>
                </a:lnTo>
                <a:lnTo>
                  <a:pt x="163" y="39"/>
                </a:lnTo>
                <a:lnTo>
                  <a:pt x="169" y="48"/>
                </a:lnTo>
                <a:lnTo>
                  <a:pt x="175" y="58"/>
                </a:lnTo>
                <a:lnTo>
                  <a:pt x="179" y="69"/>
                </a:lnTo>
                <a:lnTo>
                  <a:pt x="183" y="80"/>
                </a:lnTo>
                <a:lnTo>
                  <a:pt x="186" y="92"/>
                </a:lnTo>
                <a:lnTo>
                  <a:pt x="189" y="105"/>
                </a:lnTo>
                <a:lnTo>
                  <a:pt x="190" y="117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2"/>
                </a:lnTo>
                <a:lnTo>
                  <a:pt x="175" y="203"/>
                </a:lnTo>
                <a:lnTo>
                  <a:pt x="170" y="213"/>
                </a:lnTo>
                <a:lnTo>
                  <a:pt x="164" y="222"/>
                </a:lnTo>
                <a:lnTo>
                  <a:pt x="157" y="231"/>
                </a:lnTo>
                <a:lnTo>
                  <a:pt x="150" y="238"/>
                </a:lnTo>
                <a:lnTo>
                  <a:pt x="142" y="245"/>
                </a:lnTo>
                <a:lnTo>
                  <a:pt x="134" y="251"/>
                </a:lnTo>
                <a:lnTo>
                  <a:pt x="129" y="253"/>
                </a:lnTo>
                <a:lnTo>
                  <a:pt x="124" y="256"/>
                </a:lnTo>
                <a:lnTo>
                  <a:pt x="120" y="257"/>
                </a:lnTo>
                <a:lnTo>
                  <a:pt x="115" y="259"/>
                </a:lnTo>
                <a:lnTo>
                  <a:pt x="110" y="260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1"/>
                </a:lnTo>
                <a:lnTo>
                  <a:pt x="81" y="260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1"/>
                </a:lnTo>
                <a:lnTo>
                  <a:pt x="49" y="246"/>
                </a:lnTo>
                <a:lnTo>
                  <a:pt x="41" y="239"/>
                </a:lnTo>
                <a:lnTo>
                  <a:pt x="34" y="231"/>
                </a:lnTo>
                <a:lnTo>
                  <a:pt x="27" y="223"/>
                </a:lnTo>
                <a:lnTo>
                  <a:pt x="21" y="213"/>
                </a:lnTo>
                <a:lnTo>
                  <a:pt x="16" y="203"/>
                </a:lnTo>
                <a:lnTo>
                  <a:pt x="11" y="193"/>
                </a:lnTo>
                <a:lnTo>
                  <a:pt x="7" y="181"/>
                </a:lnTo>
                <a:lnTo>
                  <a:pt x="4" y="169"/>
                </a:lnTo>
                <a:lnTo>
                  <a:pt x="2" y="157"/>
                </a:lnTo>
                <a:lnTo>
                  <a:pt x="0" y="144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7"/>
                </a:lnTo>
                <a:lnTo>
                  <a:pt x="28" y="197"/>
                </a:lnTo>
                <a:lnTo>
                  <a:pt x="33" y="206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4"/>
                </a:lnTo>
                <a:lnTo>
                  <a:pt x="64" y="239"/>
                </a:lnTo>
                <a:lnTo>
                  <a:pt x="68" y="241"/>
                </a:lnTo>
                <a:lnTo>
                  <a:pt x="71" y="243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8"/>
                </a:lnTo>
                <a:lnTo>
                  <a:pt x="95" y="248"/>
                </a:lnTo>
                <a:lnTo>
                  <a:pt x="99" y="248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3"/>
                </a:lnTo>
                <a:lnTo>
                  <a:pt x="123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29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7"/>
                </a:lnTo>
                <a:lnTo>
                  <a:pt x="173" y="166"/>
                </a:lnTo>
                <a:lnTo>
                  <a:pt x="175" y="155"/>
                </a:lnTo>
                <a:lnTo>
                  <a:pt x="177" y="143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4"/>
                </a:lnTo>
                <a:lnTo>
                  <a:pt x="163" y="65"/>
                </a:lnTo>
                <a:lnTo>
                  <a:pt x="158" y="55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2"/>
                </a:lnTo>
                <a:lnTo>
                  <a:pt x="123" y="20"/>
                </a:lnTo>
                <a:lnTo>
                  <a:pt x="119" y="18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3"/>
                </a:lnTo>
                <a:lnTo>
                  <a:pt x="95" y="13"/>
                </a:lnTo>
                <a:lnTo>
                  <a:pt x="91" y="13"/>
                </a:lnTo>
                <a:lnTo>
                  <a:pt x="87" y="14"/>
                </a:lnTo>
                <a:lnTo>
                  <a:pt x="83" y="14"/>
                </a:lnTo>
                <a:lnTo>
                  <a:pt x="79" y="15"/>
                </a:lnTo>
                <a:lnTo>
                  <a:pt x="76" y="17"/>
                </a:lnTo>
                <a:lnTo>
                  <a:pt x="72" y="18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2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6"/>
                </a:lnTo>
                <a:lnTo>
                  <a:pt x="14" y="118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2"/>
          <p:cNvSpPr/>
          <p:nvPr/>
        </p:nvSpPr>
        <p:spPr>
          <a:xfrm>
            <a:off x="2603520" y="2874960"/>
            <a:ext cx="98280" cy="227160"/>
          </a:xfrm>
          <a:custGeom>
            <a:avLst/>
            <a:gdLst>
              <a:gd name="textAreaLeft" fmla="*/ 0 w 98280"/>
              <a:gd name="textAreaRight" fmla="*/ 98640 w 98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705" h="1601">
                <a:moveTo>
                  <a:pt x="434" y="1"/>
                </a:moveTo>
                <a:lnTo>
                  <a:pt x="426" y="1450"/>
                </a:lnTo>
                <a:lnTo>
                  <a:pt x="274" y="1450"/>
                </a:lnTo>
                <a:lnTo>
                  <a:pt x="282" y="0"/>
                </a:lnTo>
                <a:lnTo>
                  <a:pt x="434" y="1"/>
                </a:lnTo>
                <a:close/>
                <a:moveTo>
                  <a:pt x="684" y="1034"/>
                </a:moveTo>
                <a:lnTo>
                  <a:pt x="349" y="1601"/>
                </a:lnTo>
                <a:lnTo>
                  <a:pt x="21" y="1031"/>
                </a:lnTo>
                <a:cubicBezTo>
                  <a:pt x="0" y="994"/>
                  <a:pt x="12" y="948"/>
                  <a:pt x="49" y="927"/>
                </a:cubicBezTo>
                <a:cubicBezTo>
                  <a:pt x="85" y="906"/>
                  <a:pt x="132" y="918"/>
                  <a:pt x="152" y="955"/>
                </a:cubicBezTo>
                <a:lnTo>
                  <a:pt x="416" y="1412"/>
                </a:lnTo>
                <a:lnTo>
                  <a:pt x="285" y="1411"/>
                </a:lnTo>
                <a:lnTo>
                  <a:pt x="553" y="957"/>
                </a:lnTo>
                <a:cubicBezTo>
                  <a:pt x="575" y="921"/>
                  <a:pt x="621" y="909"/>
                  <a:pt x="657" y="930"/>
                </a:cubicBezTo>
                <a:cubicBezTo>
                  <a:pt x="693" y="951"/>
                  <a:pt x="705" y="998"/>
                  <a:pt x="684" y="1034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644920" y="25527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4"/>
          <p:cNvSpPr/>
          <p:nvPr/>
        </p:nvSpPr>
        <p:spPr>
          <a:xfrm>
            <a:off x="2832120" y="2359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644920" y="31575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05240" y="3375000"/>
            <a:ext cx="2808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560680" y="3432240"/>
            <a:ext cx="16812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2617920" y="3487680"/>
            <a:ext cx="554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4343400" y="243828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4237200" y="2712960"/>
            <a:ext cx="22536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4"/>
          <p:cNvSpPr/>
          <p:nvPr/>
        </p:nvSpPr>
        <p:spPr>
          <a:xfrm>
            <a:off x="4237200" y="2770200"/>
            <a:ext cx="22536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5"/>
          <p:cNvSpPr/>
          <p:nvPr/>
        </p:nvSpPr>
        <p:spPr>
          <a:xfrm>
            <a:off x="4343400" y="277668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6"/>
          <p:cNvSpPr/>
          <p:nvPr/>
        </p:nvSpPr>
        <p:spPr>
          <a:xfrm>
            <a:off x="4202280" y="3389400"/>
            <a:ext cx="282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4259160" y="3446640"/>
            <a:ext cx="16848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8"/>
          <p:cNvSpPr/>
          <p:nvPr/>
        </p:nvSpPr>
        <p:spPr>
          <a:xfrm>
            <a:off x="4314960" y="3502080"/>
            <a:ext cx="5688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9"/>
          <p:cNvSpPr/>
          <p:nvPr/>
        </p:nvSpPr>
        <p:spPr>
          <a:xfrm>
            <a:off x="2854080" y="172872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9"/>
          <p:cNvSpPr/>
          <p:nvPr/>
        </p:nvSpPr>
        <p:spPr>
          <a:xfrm>
            <a:off x="2308320" y="3886200"/>
            <a:ext cx="128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source controll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9"/>
          <p:cNvSpPr/>
          <p:nvPr/>
        </p:nvSpPr>
        <p:spPr>
          <a:xfrm>
            <a:off x="2973240" y="289548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89"/>
          <p:cNvSpPr/>
          <p:nvPr/>
        </p:nvSpPr>
        <p:spPr>
          <a:xfrm>
            <a:off x="2971800" y="2438280"/>
            <a:ext cx="4267080" cy="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95"/>
          <p:cNvSpPr/>
          <p:nvPr/>
        </p:nvSpPr>
        <p:spPr>
          <a:xfrm>
            <a:off x="533520" y="2438280"/>
            <a:ext cx="1981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94"/>
          <p:cNvGrpSpPr/>
          <p:nvPr/>
        </p:nvGrpSpPr>
        <p:grpSpPr>
          <a:xfrm>
            <a:off x="3581280" y="1905120"/>
            <a:ext cx="239760" cy="380880"/>
            <a:chOff x="3581280" y="1905120"/>
            <a:chExt cx="239760" cy="380880"/>
          </a:xfrm>
        </p:grpSpPr>
        <p:sp>
          <p:nvSpPr>
            <p:cNvPr id="488" name="Freeform 9"/>
            <p:cNvSpPr/>
            <p:nvPr/>
          </p:nvSpPr>
          <p:spPr>
            <a:xfrm>
              <a:off x="3669480" y="1905120"/>
              <a:ext cx="114840" cy="380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3778560" y="2042280"/>
              <a:ext cx="42480" cy="106200"/>
            </a:xfrm>
            <a:custGeom>
              <a:avLst/>
              <a:gdLst>
                <a:gd name="textAreaLeft" fmla="*/ 0 w 42480"/>
                <a:gd name="textAreaRight" fmla="*/ 42480 w 42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0"/>
            <p:cNvSpPr/>
            <p:nvPr/>
          </p:nvSpPr>
          <p:spPr>
            <a:xfrm>
              <a:off x="3581280" y="2078280"/>
              <a:ext cx="91440" cy="1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25"/>
          <p:cNvGrpSpPr/>
          <p:nvPr/>
        </p:nvGrpSpPr>
        <p:grpSpPr>
          <a:xfrm>
            <a:off x="3886200" y="1295280"/>
            <a:ext cx="380880" cy="1142640"/>
            <a:chOff x="3886200" y="1295280"/>
            <a:chExt cx="380880" cy="1142640"/>
          </a:xfrm>
        </p:grpSpPr>
        <p:cxnSp>
          <p:nvCxnSpPr>
            <p:cNvPr id="492" name="Straight Arrow Connector 99"/>
            <p:cNvCxnSpPr/>
            <p:nvPr/>
          </p:nvCxnSpPr>
          <p:spPr>
            <a:xfrm flipH="1" flipV="1">
              <a:off x="4120560" y="1992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3" name="Straight Connector 101"/>
            <p:cNvSpPr/>
            <p:nvPr/>
          </p:nvSpPr>
          <p:spPr>
            <a:xfrm>
              <a:off x="412128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02"/>
            <p:cNvSpPr/>
            <p:nvPr/>
          </p:nvSpPr>
          <p:spPr>
            <a:xfrm>
              <a:off x="409104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Straight Arrow Connector 103"/>
            <p:cNvCxnSpPr/>
            <p:nvPr/>
          </p:nvCxnSpPr>
          <p:spPr>
            <a:xfrm flipH="1" flipV="1">
              <a:off x="4120560" y="2151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96" name="Straight Connector 104"/>
            <p:cNvSpPr/>
            <p:nvPr/>
          </p:nvSpPr>
          <p:spPr>
            <a:xfrm>
              <a:off x="426708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5"/>
            <p:cNvSpPr/>
            <p:nvPr/>
          </p:nvSpPr>
          <p:spPr>
            <a:xfrm>
              <a:off x="426708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Straight Arrow Connector 106"/>
            <p:cNvCxnSpPr/>
            <p:nvPr/>
          </p:nvCxnSpPr>
          <p:spPr>
            <a:xfrm flipH="1" flipV="1">
              <a:off x="4120560" y="1548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9" name="Straight Connector 107"/>
            <p:cNvSpPr/>
            <p:nvPr/>
          </p:nvSpPr>
          <p:spPr>
            <a:xfrm>
              <a:off x="412128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108"/>
            <p:cNvSpPr/>
            <p:nvPr/>
          </p:nvSpPr>
          <p:spPr>
            <a:xfrm>
              <a:off x="409104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Straight Arrow Connector 109"/>
            <p:cNvCxnSpPr/>
            <p:nvPr/>
          </p:nvCxnSpPr>
          <p:spPr>
            <a:xfrm flipH="1" flipV="1">
              <a:off x="4120560" y="1707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02" name="Straight Connector 111"/>
            <p:cNvSpPr/>
            <p:nvPr/>
          </p:nvSpPr>
          <p:spPr>
            <a:xfrm>
              <a:off x="426708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15"/>
            <p:cNvSpPr/>
            <p:nvPr/>
          </p:nvSpPr>
          <p:spPr>
            <a:xfrm flipH="1">
              <a:off x="3886200" y="1358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traight Connector 117"/>
            <p:cNvSpPr/>
            <p:nvPr/>
          </p:nvSpPr>
          <p:spPr>
            <a:xfrm>
              <a:off x="388620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19"/>
            <p:cNvSpPr/>
            <p:nvPr/>
          </p:nvSpPr>
          <p:spPr>
            <a:xfrm>
              <a:off x="388620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21"/>
            <p:cNvSpPr/>
            <p:nvPr/>
          </p:nvSpPr>
          <p:spPr>
            <a:xfrm flipV="1">
              <a:off x="412128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23"/>
            <p:cNvSpPr/>
            <p:nvPr/>
          </p:nvSpPr>
          <p:spPr>
            <a:xfrm>
              <a:off x="409104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traight Connector 134"/>
          <p:cNvSpPr/>
          <p:nvPr/>
        </p:nvSpPr>
        <p:spPr>
          <a:xfrm flipH="1">
            <a:off x="3825360" y="2101680"/>
            <a:ext cx="1589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37"/>
          <p:cNvSpPr/>
          <p:nvPr/>
        </p:nvSpPr>
        <p:spPr>
          <a:xfrm flipV="1">
            <a:off x="3581280" y="1142640"/>
            <a:ext cx="0" cy="9414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39"/>
          <p:cNvSpPr/>
          <p:nvPr/>
        </p:nvSpPr>
        <p:spPr>
          <a:xfrm flipH="1">
            <a:off x="1905120" y="1143000"/>
            <a:ext cx="16761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41"/>
          <p:cNvSpPr/>
          <p:nvPr/>
        </p:nvSpPr>
        <p:spPr>
          <a:xfrm>
            <a:off x="1905120" y="1143000"/>
            <a:ext cx="0" cy="1295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9"/>
          <p:cNvSpPr/>
          <p:nvPr/>
        </p:nvSpPr>
        <p:spPr>
          <a:xfrm>
            <a:off x="4343400" y="15238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9"/>
          <p:cNvSpPr/>
          <p:nvPr/>
        </p:nvSpPr>
        <p:spPr>
          <a:xfrm>
            <a:off x="4343400" y="19051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P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25"/>
          <p:cNvGrpSpPr/>
          <p:nvPr/>
        </p:nvGrpSpPr>
        <p:grpSpPr>
          <a:xfrm>
            <a:off x="5208120" y="1295280"/>
            <a:ext cx="381600" cy="1142640"/>
            <a:chOff x="5208120" y="1295280"/>
            <a:chExt cx="381600" cy="1142640"/>
          </a:xfrm>
        </p:grpSpPr>
        <p:cxnSp>
          <p:nvCxnSpPr>
            <p:cNvPr id="515" name="Straight Arrow Connector 70"/>
            <p:cNvCxnSpPr/>
            <p:nvPr/>
          </p:nvCxnSpPr>
          <p:spPr>
            <a:xfrm flipH="1" flipV="1">
              <a:off x="5443200" y="19929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516" name="Straight Connector 71"/>
            <p:cNvSpPr/>
            <p:nvPr/>
          </p:nvSpPr>
          <p:spPr>
            <a:xfrm>
              <a:off x="544356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72"/>
            <p:cNvSpPr/>
            <p:nvPr/>
          </p:nvSpPr>
          <p:spPr>
            <a:xfrm>
              <a:off x="541332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Straight Arrow Connector 73"/>
            <p:cNvCxnSpPr/>
            <p:nvPr/>
          </p:nvCxnSpPr>
          <p:spPr>
            <a:xfrm flipH="1" flipV="1">
              <a:off x="5443200" y="21517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19" name="Straight Connector 74"/>
            <p:cNvSpPr/>
            <p:nvPr/>
          </p:nvSpPr>
          <p:spPr>
            <a:xfrm>
              <a:off x="558972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traight Connector 75"/>
            <p:cNvSpPr/>
            <p:nvPr/>
          </p:nvSpPr>
          <p:spPr>
            <a:xfrm>
              <a:off x="558972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1" name="Straight Arrow Connector 76"/>
            <p:cNvCxnSpPr/>
            <p:nvPr/>
          </p:nvCxnSpPr>
          <p:spPr>
            <a:xfrm flipH="1" flipV="1">
              <a:off x="5443200" y="15483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522" name="Straight Connector 77"/>
            <p:cNvSpPr/>
            <p:nvPr/>
          </p:nvSpPr>
          <p:spPr>
            <a:xfrm>
              <a:off x="544356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78"/>
            <p:cNvSpPr/>
            <p:nvPr/>
          </p:nvSpPr>
          <p:spPr>
            <a:xfrm>
              <a:off x="541332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Straight Arrow Connector 79"/>
            <p:cNvCxnSpPr/>
            <p:nvPr/>
          </p:nvCxnSpPr>
          <p:spPr>
            <a:xfrm flipH="1" flipV="1">
              <a:off x="5443200" y="17071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25" name="Straight Connector 80"/>
            <p:cNvSpPr/>
            <p:nvPr/>
          </p:nvSpPr>
          <p:spPr>
            <a:xfrm>
              <a:off x="558972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81"/>
            <p:cNvSpPr/>
            <p:nvPr/>
          </p:nvSpPr>
          <p:spPr>
            <a:xfrm flipH="1">
              <a:off x="5208120" y="1358640"/>
              <a:ext cx="381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2"/>
            <p:cNvSpPr/>
            <p:nvPr/>
          </p:nvSpPr>
          <p:spPr>
            <a:xfrm>
              <a:off x="520848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traight Connector 83"/>
            <p:cNvSpPr/>
            <p:nvPr/>
          </p:nvSpPr>
          <p:spPr>
            <a:xfrm>
              <a:off x="520848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traight Connector 84"/>
            <p:cNvSpPr/>
            <p:nvPr/>
          </p:nvSpPr>
          <p:spPr>
            <a:xfrm flipV="1">
              <a:off x="544356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86"/>
            <p:cNvSpPr/>
            <p:nvPr/>
          </p:nvSpPr>
          <p:spPr>
            <a:xfrm>
              <a:off x="541332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98"/>
          <p:cNvSpPr/>
          <p:nvPr/>
        </p:nvSpPr>
        <p:spPr>
          <a:xfrm>
            <a:off x="3809880" y="1219320"/>
            <a:ext cx="2057400" cy="6858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10"/>
          <p:cNvSpPr/>
          <p:nvPr/>
        </p:nvSpPr>
        <p:spPr>
          <a:xfrm>
            <a:off x="4648320" y="160020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>
            <a:off x="4952880" y="914400"/>
            <a:ext cx="106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bit binary weighted control for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5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280" y="93780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Stable On-chip oscillator for system clock/Tim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Reduces feature size, makes the platform impla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Othe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Higher cost, increased feature size, more pow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emperature stabilit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st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6294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PM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228600" y="1477440"/>
            <a:ext cx="4648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nS out of 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/5000*1000000= 600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is varies over 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utput= 600/70~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96"/>
          <p:cNvGrpSpPr/>
          <p:nvPr/>
        </p:nvGrpSpPr>
        <p:grpSpPr>
          <a:xfrm>
            <a:off x="1371600" y="228600"/>
            <a:ext cx="5334120" cy="2304360"/>
            <a:chOff x="1371600" y="228600"/>
            <a:chExt cx="5334120" cy="2304360"/>
          </a:xfrm>
        </p:grpSpPr>
        <p:pic>
          <p:nvPicPr>
            <p:cNvPr id="541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761760"/>
              <a:ext cx="18079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1"/>
            <p:cNvSpPr/>
            <p:nvPr/>
          </p:nvSpPr>
          <p:spPr>
            <a:xfrm>
              <a:off x="1828800" y="2134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23" descr="CTAT.png"/>
            <p:cNvPicPr/>
            <p:nvPr/>
          </p:nvPicPr>
          <p:blipFill>
            <a:blip r:embed="rId2"/>
            <a:stretch/>
          </p:blipFill>
          <p:spPr>
            <a:xfrm>
              <a:off x="3200400" y="228600"/>
              <a:ext cx="35053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79"/>
          <p:cNvGrpSpPr/>
          <p:nvPr/>
        </p:nvGrpSpPr>
        <p:grpSpPr>
          <a:xfrm>
            <a:off x="603360" y="2895480"/>
            <a:ext cx="6602400" cy="3066480"/>
            <a:chOff x="603360" y="2895480"/>
            <a:chExt cx="6602400" cy="3066480"/>
          </a:xfrm>
        </p:grpSpPr>
        <p:sp>
          <p:nvSpPr>
            <p:cNvPr id="545" name="Rectangle 1"/>
            <p:cNvSpPr/>
            <p:nvPr/>
          </p:nvSpPr>
          <p:spPr>
            <a:xfrm>
              <a:off x="1289160" y="5563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41"/>
            <p:cNvSpPr/>
            <p:nvPr/>
          </p:nvSpPr>
          <p:spPr>
            <a:xfrm>
              <a:off x="603360" y="3733560"/>
              <a:ext cx="304560" cy="990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0"/>
            <p:cNvSpPr/>
            <p:nvPr/>
          </p:nvSpPr>
          <p:spPr>
            <a:xfrm rot="16200000">
              <a:off x="254160" y="3930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traight Connector 143"/>
            <p:cNvSpPr/>
            <p:nvPr/>
          </p:nvSpPr>
          <p:spPr>
            <a:xfrm flipH="1" flipV="1">
              <a:off x="907920" y="394596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71"/>
            <p:cNvGrpSpPr/>
            <p:nvPr/>
          </p:nvGrpSpPr>
          <p:grpSpPr>
            <a:xfrm>
              <a:off x="1143000" y="2971080"/>
              <a:ext cx="1212840" cy="2591280"/>
              <a:chOff x="1143000" y="2971080"/>
              <a:chExt cx="1212840" cy="2591280"/>
            </a:xfrm>
          </p:grpSpPr>
          <p:cxnSp>
            <p:nvCxnSpPr>
              <p:cNvPr id="550" name="Straight Arrow Connector 98"/>
              <p:cNvCxnSpPr/>
              <p:nvPr/>
            </p:nvCxnSpPr>
            <p:spPr>
              <a:xfrm flipH="1" flipV="1">
                <a:off x="2000160" y="328680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551" name="Straight Connector 99"/>
              <p:cNvSpPr/>
              <p:nvPr/>
            </p:nvSpPr>
            <p:spPr>
              <a:xfrm>
                <a:off x="2000880" y="324180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00"/>
              <p:cNvSpPr/>
              <p:nvPr/>
            </p:nvSpPr>
            <p:spPr>
              <a:xfrm flipH="1" flipV="1">
                <a:off x="2000520" y="35251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Straight Connector 101"/>
              <p:cNvSpPr/>
              <p:nvPr/>
            </p:nvSpPr>
            <p:spPr>
              <a:xfrm flipH="1">
                <a:off x="1944720" y="324180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Straight Connector 102"/>
              <p:cNvSpPr/>
              <p:nvPr/>
            </p:nvSpPr>
            <p:spPr>
              <a:xfrm flipH="1">
                <a:off x="1226520" y="305820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Straight Connector 106"/>
              <p:cNvSpPr/>
              <p:nvPr/>
            </p:nvSpPr>
            <p:spPr>
              <a:xfrm flipV="1">
                <a:off x="1763280" y="297108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traight Connector 107"/>
              <p:cNvSpPr/>
              <p:nvPr/>
            </p:nvSpPr>
            <p:spPr>
              <a:xfrm>
                <a:off x="1716840" y="29714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traight Connector 108"/>
              <p:cNvSpPr/>
              <p:nvPr/>
            </p:nvSpPr>
            <p:spPr>
              <a:xfrm flipH="1">
                <a:off x="1558080" y="436572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Straight Arrow Connector 109"/>
              <p:cNvCxnSpPr/>
              <p:nvPr/>
            </p:nvCxnSpPr>
            <p:spPr>
              <a:xfrm flipH="1" flipV="1">
                <a:off x="2003040" y="42728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59" name="Straight Connector 110"/>
              <p:cNvSpPr/>
              <p:nvPr/>
            </p:nvSpPr>
            <p:spPr>
              <a:xfrm>
                <a:off x="20037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traight Connector 111"/>
              <p:cNvSpPr/>
              <p:nvPr/>
            </p:nvSpPr>
            <p:spPr>
              <a:xfrm flipH="1" flipV="1">
                <a:off x="2003400" y="445680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traight Connector 112"/>
              <p:cNvSpPr/>
              <p:nvPr/>
            </p:nvSpPr>
            <p:spPr>
              <a:xfrm>
                <a:off x="19479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traight Connector 113"/>
              <p:cNvSpPr/>
              <p:nvPr/>
            </p:nvSpPr>
            <p:spPr>
              <a:xfrm flipH="1">
                <a:off x="2279880" y="445716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traight Connector 114"/>
              <p:cNvSpPr/>
              <p:nvPr/>
            </p:nvSpPr>
            <p:spPr>
              <a:xfrm>
                <a:off x="2169720" y="55134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15"/>
              <p:cNvSpPr/>
              <p:nvPr/>
            </p:nvSpPr>
            <p:spPr>
              <a:xfrm>
                <a:off x="2216520" y="553176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traight Connector 116"/>
              <p:cNvSpPr/>
              <p:nvPr/>
            </p:nvSpPr>
            <p:spPr>
              <a:xfrm>
                <a:off x="2250360" y="554904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traight Connector 117"/>
              <p:cNvSpPr/>
              <p:nvPr/>
            </p:nvSpPr>
            <p:spPr>
              <a:xfrm flipH="1">
                <a:off x="1225080" y="305820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traight Connector 118"/>
              <p:cNvSpPr/>
              <p:nvPr/>
            </p:nvSpPr>
            <p:spPr>
              <a:xfrm flipH="1" flipV="1">
                <a:off x="1666800" y="34189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Straight Connector 119"/>
              <p:cNvSpPr/>
              <p:nvPr/>
            </p:nvSpPr>
            <p:spPr>
              <a:xfrm>
                <a:off x="15555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Straight Connector 120"/>
              <p:cNvSpPr/>
              <p:nvPr/>
            </p:nvSpPr>
            <p:spPr>
              <a:xfrm flipH="1" flipV="1">
                <a:off x="1221480" y="32896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121"/>
              <p:cNvSpPr/>
              <p:nvPr/>
            </p:nvSpPr>
            <p:spPr>
              <a:xfrm>
                <a:off x="14997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Straight Connector 122"/>
              <p:cNvSpPr/>
              <p:nvPr/>
            </p:nvSpPr>
            <p:spPr>
              <a:xfrm flipH="1">
                <a:off x="2287800" y="30632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Straight Connector 123"/>
              <p:cNvSpPr/>
              <p:nvPr/>
            </p:nvSpPr>
            <p:spPr>
              <a:xfrm flipH="1">
                <a:off x="1221480" y="353412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Straight Connector 124"/>
              <p:cNvSpPr/>
              <p:nvPr/>
            </p:nvSpPr>
            <p:spPr>
              <a:xfrm flipH="1" flipV="1">
                <a:off x="1555560" y="341892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4" name="Straight Arrow Connector 125"/>
              <p:cNvCxnSpPr/>
              <p:nvPr/>
            </p:nvCxnSpPr>
            <p:spPr>
              <a:xfrm flipH="1" flipV="1">
                <a:off x="1225800" y="42800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75" name="Straight Connector 126"/>
              <p:cNvSpPr/>
              <p:nvPr/>
            </p:nvSpPr>
            <p:spPr>
              <a:xfrm>
                <a:off x="150444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27"/>
              <p:cNvSpPr/>
              <p:nvPr/>
            </p:nvSpPr>
            <p:spPr>
              <a:xfrm flipH="1" flipV="1">
                <a:off x="1226160" y="44568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28"/>
              <p:cNvSpPr/>
              <p:nvPr/>
            </p:nvSpPr>
            <p:spPr>
              <a:xfrm flipH="1">
                <a:off x="1558440" y="41810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29"/>
              <p:cNvSpPr/>
              <p:nvPr/>
            </p:nvSpPr>
            <p:spPr>
              <a:xfrm>
                <a:off x="1143000" y="552672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30"/>
              <p:cNvSpPr/>
              <p:nvPr/>
            </p:nvSpPr>
            <p:spPr>
              <a:xfrm>
                <a:off x="1189440" y="554400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131"/>
              <p:cNvSpPr/>
              <p:nvPr/>
            </p:nvSpPr>
            <p:spPr>
              <a:xfrm>
                <a:off x="1223640" y="556128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32"/>
              <p:cNvSpPr/>
              <p:nvPr/>
            </p:nvSpPr>
            <p:spPr>
              <a:xfrm>
                <a:off x="1825560" y="341208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133"/>
              <p:cNvSpPr/>
              <p:nvPr/>
            </p:nvSpPr>
            <p:spPr>
              <a:xfrm flipH="1">
                <a:off x="1825560" y="38271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134"/>
              <p:cNvSpPr/>
              <p:nvPr/>
            </p:nvSpPr>
            <p:spPr>
              <a:xfrm flipH="1">
                <a:off x="2272320" y="35301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135"/>
              <p:cNvSpPr/>
              <p:nvPr/>
            </p:nvSpPr>
            <p:spPr>
              <a:xfrm flipH="1">
                <a:off x="1229760" y="353772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136"/>
              <p:cNvSpPr/>
              <p:nvPr/>
            </p:nvSpPr>
            <p:spPr>
              <a:xfrm flipH="1">
                <a:off x="1229760" y="395172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137"/>
              <p:cNvSpPr/>
              <p:nvPr/>
            </p:nvSpPr>
            <p:spPr>
              <a:xfrm>
                <a:off x="1685880" y="394452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48"/>
              <p:cNvGrpSpPr/>
              <p:nvPr/>
            </p:nvGrpSpPr>
            <p:grpSpPr>
              <a:xfrm>
                <a:off x="2178720" y="4743000"/>
                <a:ext cx="149040" cy="473040"/>
                <a:chOff x="2178720" y="4743000"/>
                <a:chExt cx="149040" cy="473040"/>
              </a:xfrm>
            </p:grpSpPr>
            <p:sp>
              <p:nvSpPr>
                <p:cNvPr id="588" name="Straight Connector 162"/>
                <p:cNvSpPr/>
                <p:nvPr/>
              </p:nvSpPr>
              <p:spPr>
                <a:xfrm flipH="1" flipV="1">
                  <a:off x="2179080" y="518652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Straight Connector 163"/>
                <p:cNvSpPr/>
                <p:nvPr/>
              </p:nvSpPr>
              <p:spPr>
                <a:xfrm flipV="1">
                  <a:off x="2179080" y="5127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Straight Connector 164"/>
                <p:cNvSpPr/>
                <p:nvPr/>
              </p:nvSpPr>
              <p:spPr>
                <a:xfrm flipH="1" flipV="1">
                  <a:off x="2178720" y="5068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Straight Connector 165"/>
                <p:cNvSpPr/>
                <p:nvPr/>
              </p:nvSpPr>
              <p:spPr>
                <a:xfrm flipV="1">
                  <a:off x="2179080" y="50094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Straight Connector 166"/>
                <p:cNvSpPr/>
                <p:nvPr/>
              </p:nvSpPr>
              <p:spPr>
                <a:xfrm flipH="1" flipV="1">
                  <a:off x="2178720" y="4950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Straight Connector 167"/>
                <p:cNvSpPr/>
                <p:nvPr/>
              </p:nvSpPr>
              <p:spPr>
                <a:xfrm flipV="1">
                  <a:off x="2179080" y="4890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Straight Connector 168"/>
                <p:cNvSpPr/>
                <p:nvPr/>
              </p:nvSpPr>
              <p:spPr>
                <a:xfrm flipH="1" flipV="1">
                  <a:off x="2178720" y="48315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Straight Connector 169"/>
                <p:cNvSpPr/>
                <p:nvPr/>
              </p:nvSpPr>
              <p:spPr>
                <a:xfrm flipV="1">
                  <a:off x="2179080" y="47725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Straight Connector 170"/>
                <p:cNvSpPr/>
                <p:nvPr/>
              </p:nvSpPr>
              <p:spPr>
                <a:xfrm flipH="1" flipV="1">
                  <a:off x="2252880" y="474300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Straight Connector 139"/>
              <p:cNvSpPr/>
              <p:nvPr/>
            </p:nvSpPr>
            <p:spPr>
              <a:xfrm>
                <a:off x="2253600" y="522360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140"/>
              <p:cNvSpPr/>
              <p:nvPr/>
            </p:nvSpPr>
            <p:spPr>
              <a:xfrm flipH="1">
                <a:off x="1239120" y="445464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47"/>
              <p:cNvSpPr/>
              <p:nvPr/>
            </p:nvSpPr>
            <p:spPr>
              <a:xfrm>
                <a:off x="2244240" y="380376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48"/>
              <p:cNvSpPr/>
              <p:nvPr/>
            </p:nvSpPr>
            <p:spPr>
              <a:xfrm>
                <a:off x="1211040" y="39294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1" name="Straight Arrow Connector 149"/>
            <p:cNvCxnSpPr/>
            <p:nvPr/>
          </p:nvCxnSpPr>
          <p:spPr>
            <a:xfrm flipH="1">
              <a:off x="2431800" y="319968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02" name="TextBox 305"/>
            <p:cNvSpPr/>
            <p:nvPr/>
          </p:nvSpPr>
          <p:spPr>
            <a:xfrm>
              <a:off x="1822320" y="3962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15"/>
            <p:cNvSpPr/>
            <p:nvPr/>
          </p:nvSpPr>
          <p:spPr>
            <a:xfrm>
              <a:off x="1746360" y="4876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05"/>
            <p:cNvSpPr/>
            <p:nvPr/>
          </p:nvSpPr>
          <p:spPr>
            <a:xfrm>
              <a:off x="1212840" y="40384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05"/>
            <p:cNvSpPr/>
            <p:nvPr/>
          </p:nvSpPr>
          <p:spPr>
            <a:xfrm>
              <a:off x="121284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05"/>
            <p:cNvSpPr/>
            <p:nvPr/>
          </p:nvSpPr>
          <p:spPr>
            <a:xfrm>
              <a:off x="205092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05"/>
            <p:cNvSpPr/>
            <p:nvPr/>
          </p:nvSpPr>
          <p:spPr>
            <a:xfrm>
              <a:off x="2432160" y="3276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78" descr="PTAT.png"/>
            <p:cNvPicPr/>
            <p:nvPr/>
          </p:nvPicPr>
          <p:blipFill>
            <a:blip r:embed="rId3"/>
            <a:stretch/>
          </p:blipFill>
          <p:spPr>
            <a:xfrm>
              <a:off x="2743200" y="2895480"/>
              <a:ext cx="4462560" cy="29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34"/>
          <p:cNvGrpSpPr/>
          <p:nvPr/>
        </p:nvGrpSpPr>
        <p:grpSpPr>
          <a:xfrm>
            <a:off x="1295280" y="1371240"/>
            <a:ext cx="6096240" cy="2656080"/>
            <a:chOff x="1295280" y="1371240"/>
            <a:chExt cx="6096240" cy="2656080"/>
          </a:xfrm>
        </p:grpSpPr>
        <p:sp>
          <p:nvSpPr>
            <p:cNvPr id="611" name="Freeform 5"/>
            <p:cNvSpPr/>
            <p:nvPr/>
          </p:nvSpPr>
          <p:spPr>
            <a:xfrm>
              <a:off x="3140640" y="186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3243600" y="1982880"/>
              <a:ext cx="92520" cy="208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3276360" y="167040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3151080" y="1663200"/>
              <a:ext cx="2642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142080" y="2337840"/>
              <a:ext cx="334440" cy="4352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0"/>
            <p:cNvSpPr/>
            <p:nvPr/>
          </p:nvSpPr>
          <p:spPr>
            <a:xfrm>
              <a:off x="3290040" y="224244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3140640" y="285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3243600" y="2971080"/>
              <a:ext cx="92520" cy="209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82480" y="267336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3458880" y="2494800"/>
              <a:ext cx="123840" cy="121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3282480" y="323208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3151080" y="3432960"/>
              <a:ext cx="2642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7"/>
            <p:cNvSpPr/>
            <p:nvPr/>
          </p:nvSpPr>
          <p:spPr>
            <a:xfrm>
              <a:off x="3203280" y="348588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3256920" y="3537000"/>
              <a:ext cx="5220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4881240" y="2567880"/>
              <a:ext cx="13320" cy="2610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4781160" y="2821680"/>
              <a:ext cx="2120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4781160" y="2874240"/>
              <a:ext cx="212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4881240" y="2880360"/>
              <a:ext cx="13320" cy="57312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4748400" y="3446280"/>
              <a:ext cx="26568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7"/>
            <p:cNvSpPr/>
            <p:nvPr/>
          </p:nvSpPr>
          <p:spPr>
            <a:xfrm>
              <a:off x="4802040" y="349920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8"/>
            <p:cNvSpPr/>
            <p:nvPr/>
          </p:nvSpPr>
          <p:spPr>
            <a:xfrm>
              <a:off x="4854600" y="3550320"/>
              <a:ext cx="536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2928240" y="390528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>
              <a:off x="3504960" y="2971800"/>
              <a:ext cx="17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89"/>
            <p:cNvSpPr/>
            <p:nvPr/>
          </p:nvSpPr>
          <p:spPr>
            <a:xfrm>
              <a:off x="3590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traight Connector 95"/>
            <p:cNvSpPr/>
            <p:nvPr/>
          </p:nvSpPr>
          <p:spPr>
            <a:xfrm>
              <a:off x="1295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traight Connector 143"/>
            <p:cNvSpPr/>
            <p:nvPr/>
          </p:nvSpPr>
          <p:spPr>
            <a:xfrm>
              <a:off x="1438560" y="313092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traight Connector 145"/>
            <p:cNvSpPr/>
            <p:nvPr/>
          </p:nvSpPr>
          <p:spPr>
            <a:xfrm flipV="1">
              <a:off x="1797120" y="2708280"/>
              <a:ext cx="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46"/>
            <p:cNvSpPr/>
            <p:nvPr/>
          </p:nvSpPr>
          <p:spPr>
            <a:xfrm>
              <a:off x="1797120" y="270864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traight Connector 149"/>
            <p:cNvSpPr/>
            <p:nvPr/>
          </p:nvSpPr>
          <p:spPr>
            <a:xfrm>
              <a:off x="5598720" y="277920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traight Connector 151"/>
            <p:cNvSpPr/>
            <p:nvPr/>
          </p:nvSpPr>
          <p:spPr>
            <a:xfrm flipH="1" flipV="1">
              <a:off x="5956920" y="2778840"/>
              <a:ext cx="64548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traight Connector 153"/>
            <p:cNvSpPr/>
            <p:nvPr/>
          </p:nvSpPr>
          <p:spPr>
            <a:xfrm>
              <a:off x="6602760" y="32014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94"/>
            <p:cNvGrpSpPr/>
            <p:nvPr/>
          </p:nvGrpSpPr>
          <p:grpSpPr>
            <a:xfrm>
              <a:off x="4164120" y="2075400"/>
              <a:ext cx="225360" cy="351720"/>
              <a:chOff x="4164120" y="2075400"/>
              <a:chExt cx="225360" cy="351720"/>
            </a:xfrm>
          </p:grpSpPr>
          <p:sp>
            <p:nvSpPr>
              <p:cNvPr id="643" name="Freeform 9"/>
              <p:cNvSpPr/>
              <p:nvPr/>
            </p:nvSpPr>
            <p:spPr>
              <a:xfrm>
                <a:off x="4246920" y="2075400"/>
                <a:ext cx="108000" cy="351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5072" h="6687">
                    <a:moveTo>
                      <a:pt x="0" y="143"/>
                    </a:moveTo>
                    <a:cubicBezTo>
                      <a:pt x="0" y="93"/>
                      <a:pt x="28" y="47"/>
                      <a:pt x="72" y="24"/>
                    </a:cubicBezTo>
                    <a:cubicBezTo>
                      <a:pt x="117" y="0"/>
                      <a:pt x="170" y="2"/>
                      <a:pt x="212" y="30"/>
                    </a:cubicBezTo>
                    <a:lnTo>
                      <a:pt x="5012" y="3230"/>
                    </a:lnTo>
                    <a:cubicBezTo>
                      <a:pt x="5050" y="3256"/>
                      <a:pt x="5072" y="3298"/>
                      <a:pt x="5072" y="3343"/>
                    </a:cubicBezTo>
                    <a:cubicBezTo>
                      <a:pt x="5072" y="3389"/>
                      <a:pt x="5050" y="3431"/>
                      <a:pt x="5012" y="3457"/>
                    </a:cubicBezTo>
                    <a:lnTo>
                      <a:pt x="212" y="6657"/>
                    </a:lnTo>
                    <a:cubicBezTo>
                      <a:pt x="170" y="6684"/>
                      <a:pt x="117" y="6687"/>
                      <a:pt x="72" y="6663"/>
                    </a:cubicBezTo>
                    <a:cubicBezTo>
                      <a:pt x="28" y="6640"/>
                      <a:pt x="0" y="6594"/>
                      <a:pt x="0" y="6543"/>
                    </a:cubicBezTo>
                    <a:lnTo>
                      <a:pt x="0" y="143"/>
                    </a:lnTo>
                    <a:close/>
                    <a:moveTo>
                      <a:pt x="272" y="6543"/>
                    </a:moveTo>
                    <a:lnTo>
                      <a:pt x="61" y="6430"/>
                    </a:lnTo>
                    <a:lnTo>
                      <a:pt x="4861" y="3230"/>
                    </a:lnTo>
                    <a:lnTo>
                      <a:pt x="4861" y="3457"/>
                    </a:lnTo>
                    <a:lnTo>
                      <a:pt x="61" y="257"/>
                    </a:lnTo>
                    <a:lnTo>
                      <a:pt x="272" y="143"/>
                    </a:lnTo>
                    <a:lnTo>
                      <a:pt x="272" y="6543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"/>
              <p:cNvSpPr/>
              <p:nvPr/>
            </p:nvSpPr>
            <p:spPr>
              <a:xfrm>
                <a:off x="4349520" y="2202120"/>
                <a:ext cx="39960" cy="98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71" h="1871">
                    <a:moveTo>
                      <a:pt x="0" y="942"/>
                    </a:moveTo>
                    <a:lnTo>
                      <a:pt x="4" y="847"/>
                    </a:lnTo>
                    <a:lnTo>
                      <a:pt x="17" y="754"/>
                    </a:lnTo>
                    <a:lnTo>
                      <a:pt x="40" y="663"/>
                    </a:lnTo>
                    <a:lnTo>
                      <a:pt x="71" y="577"/>
                    </a:lnTo>
                    <a:lnTo>
                      <a:pt x="110" y="495"/>
                    </a:lnTo>
                    <a:lnTo>
                      <a:pt x="156" y="418"/>
                    </a:lnTo>
                    <a:cubicBezTo>
                      <a:pt x="160" y="412"/>
                      <a:pt x="164" y="407"/>
                      <a:pt x="168" y="402"/>
                    </a:cubicBezTo>
                    <a:lnTo>
                      <a:pt x="266" y="284"/>
                    </a:lnTo>
                    <a:cubicBezTo>
                      <a:pt x="271" y="277"/>
                      <a:pt x="277" y="271"/>
                      <a:pt x="284" y="266"/>
                    </a:cubicBezTo>
                    <a:lnTo>
                      <a:pt x="402" y="168"/>
                    </a:lnTo>
                    <a:cubicBezTo>
                      <a:pt x="407" y="164"/>
                      <a:pt x="412" y="160"/>
                      <a:pt x="418" y="156"/>
                    </a:cubicBezTo>
                    <a:lnTo>
                      <a:pt x="484" y="116"/>
                    </a:lnTo>
                    <a:lnTo>
                      <a:pt x="565" y="76"/>
                    </a:lnTo>
                    <a:lnTo>
                      <a:pt x="650" y="44"/>
                    </a:lnTo>
                    <a:lnTo>
                      <a:pt x="740" y="20"/>
                    </a:lnTo>
                    <a:lnTo>
                      <a:pt x="833" y="5"/>
                    </a:lnTo>
                    <a:lnTo>
                      <a:pt x="929" y="0"/>
                    </a:lnTo>
                    <a:lnTo>
                      <a:pt x="1024" y="4"/>
                    </a:lnTo>
                    <a:lnTo>
                      <a:pt x="1117" y="17"/>
                    </a:lnTo>
                    <a:lnTo>
                      <a:pt x="1208" y="40"/>
                    </a:lnTo>
                    <a:lnTo>
                      <a:pt x="1294" y="71"/>
                    </a:lnTo>
                    <a:lnTo>
                      <a:pt x="1376" y="110"/>
                    </a:lnTo>
                    <a:lnTo>
                      <a:pt x="1453" y="156"/>
                    </a:lnTo>
                    <a:cubicBezTo>
                      <a:pt x="1459" y="160"/>
                      <a:pt x="1464" y="163"/>
                      <a:pt x="1469" y="167"/>
                    </a:cubicBezTo>
                    <a:lnTo>
                      <a:pt x="1588" y="265"/>
                    </a:lnTo>
                    <a:cubicBezTo>
                      <a:pt x="1595" y="271"/>
                      <a:pt x="1601" y="277"/>
                      <a:pt x="1607" y="284"/>
                    </a:cubicBezTo>
                    <a:lnTo>
                      <a:pt x="1704" y="402"/>
                    </a:lnTo>
                    <a:cubicBezTo>
                      <a:pt x="1708" y="407"/>
                      <a:pt x="1711" y="412"/>
                      <a:pt x="1715" y="418"/>
                    </a:cubicBezTo>
                    <a:lnTo>
                      <a:pt x="1755" y="484"/>
                    </a:lnTo>
                    <a:lnTo>
                      <a:pt x="1795" y="565"/>
                    </a:lnTo>
                    <a:lnTo>
                      <a:pt x="1827" y="650"/>
                    </a:lnTo>
                    <a:lnTo>
                      <a:pt x="1851" y="740"/>
                    </a:lnTo>
                    <a:lnTo>
                      <a:pt x="1866" y="833"/>
                    </a:lnTo>
                    <a:lnTo>
                      <a:pt x="1871" y="929"/>
                    </a:lnTo>
                    <a:lnTo>
                      <a:pt x="1867" y="1024"/>
                    </a:lnTo>
                    <a:lnTo>
                      <a:pt x="1854" y="1117"/>
                    </a:lnTo>
                    <a:lnTo>
                      <a:pt x="1831" y="1208"/>
                    </a:lnTo>
                    <a:lnTo>
                      <a:pt x="1800" y="1294"/>
                    </a:lnTo>
                    <a:lnTo>
                      <a:pt x="1761" y="1376"/>
                    </a:lnTo>
                    <a:lnTo>
                      <a:pt x="1715" y="1453"/>
                    </a:lnTo>
                    <a:lnTo>
                      <a:pt x="1607" y="1587"/>
                    </a:lnTo>
                    <a:cubicBezTo>
                      <a:pt x="1601" y="1595"/>
                      <a:pt x="1595" y="1601"/>
                      <a:pt x="1587" y="1607"/>
                    </a:cubicBezTo>
                    <a:lnTo>
                      <a:pt x="1468" y="1704"/>
                    </a:lnTo>
                    <a:lnTo>
                      <a:pt x="1387" y="1755"/>
                    </a:lnTo>
                    <a:lnTo>
                      <a:pt x="1306" y="1795"/>
                    </a:lnTo>
                    <a:lnTo>
                      <a:pt x="1221" y="1827"/>
                    </a:lnTo>
                    <a:lnTo>
                      <a:pt x="1131" y="1851"/>
                    </a:lnTo>
                    <a:lnTo>
                      <a:pt x="1038" y="1866"/>
                    </a:lnTo>
                    <a:lnTo>
                      <a:pt x="942" y="1871"/>
                    </a:lnTo>
                    <a:lnTo>
                      <a:pt x="847" y="1867"/>
                    </a:lnTo>
                    <a:lnTo>
                      <a:pt x="754" y="1854"/>
                    </a:lnTo>
                    <a:lnTo>
                      <a:pt x="663" y="1831"/>
                    </a:lnTo>
                    <a:lnTo>
                      <a:pt x="577" y="1800"/>
                    </a:lnTo>
                    <a:lnTo>
                      <a:pt x="495" y="1761"/>
                    </a:lnTo>
                    <a:lnTo>
                      <a:pt x="418" y="1715"/>
                    </a:lnTo>
                    <a:cubicBezTo>
                      <a:pt x="412" y="1711"/>
                      <a:pt x="407" y="1708"/>
                      <a:pt x="402" y="1704"/>
                    </a:cubicBezTo>
                    <a:lnTo>
                      <a:pt x="284" y="1607"/>
                    </a:lnTo>
                    <a:cubicBezTo>
                      <a:pt x="277" y="1601"/>
                      <a:pt x="271" y="1595"/>
                      <a:pt x="265" y="1588"/>
                    </a:cubicBezTo>
                    <a:lnTo>
                      <a:pt x="167" y="1469"/>
                    </a:lnTo>
                    <a:cubicBezTo>
                      <a:pt x="163" y="1464"/>
                      <a:pt x="160" y="1459"/>
                      <a:pt x="156" y="1453"/>
                    </a:cubicBezTo>
                    <a:lnTo>
                      <a:pt x="116" y="1387"/>
                    </a:lnTo>
                    <a:lnTo>
                      <a:pt x="76" y="1306"/>
                    </a:lnTo>
                    <a:lnTo>
                      <a:pt x="44" y="1221"/>
                    </a:lnTo>
                    <a:lnTo>
                      <a:pt x="20" y="1131"/>
                    </a:lnTo>
                    <a:lnTo>
                      <a:pt x="5" y="1038"/>
                    </a:lnTo>
                    <a:lnTo>
                      <a:pt x="0" y="942"/>
                    </a:lnTo>
                    <a:close/>
                    <a:moveTo>
                      <a:pt x="274" y="997"/>
                    </a:moveTo>
                    <a:lnTo>
                      <a:pt x="283" y="1062"/>
                    </a:lnTo>
                    <a:lnTo>
                      <a:pt x="299" y="1126"/>
                    </a:lnTo>
                    <a:lnTo>
                      <a:pt x="321" y="1187"/>
                    </a:lnTo>
                    <a:lnTo>
                      <a:pt x="349" y="1246"/>
                    </a:lnTo>
                    <a:lnTo>
                      <a:pt x="389" y="1312"/>
                    </a:lnTo>
                    <a:lnTo>
                      <a:pt x="377" y="1296"/>
                    </a:lnTo>
                    <a:lnTo>
                      <a:pt x="475" y="1415"/>
                    </a:lnTo>
                    <a:lnTo>
                      <a:pt x="457" y="1396"/>
                    </a:lnTo>
                    <a:lnTo>
                      <a:pt x="575" y="1493"/>
                    </a:lnTo>
                    <a:lnTo>
                      <a:pt x="559" y="1482"/>
                    </a:lnTo>
                    <a:lnTo>
                      <a:pt x="614" y="1516"/>
                    </a:lnTo>
                    <a:lnTo>
                      <a:pt x="672" y="1545"/>
                    </a:lnTo>
                    <a:lnTo>
                      <a:pt x="732" y="1568"/>
                    </a:lnTo>
                    <a:lnTo>
                      <a:pt x="795" y="1585"/>
                    </a:lnTo>
                    <a:lnTo>
                      <a:pt x="860" y="1596"/>
                    </a:lnTo>
                    <a:lnTo>
                      <a:pt x="929" y="1600"/>
                    </a:lnTo>
                    <a:lnTo>
                      <a:pt x="997" y="1597"/>
                    </a:lnTo>
                    <a:lnTo>
                      <a:pt x="1062" y="1588"/>
                    </a:lnTo>
                    <a:lnTo>
                      <a:pt x="1126" y="1572"/>
                    </a:lnTo>
                    <a:lnTo>
                      <a:pt x="1187" y="1550"/>
                    </a:lnTo>
                    <a:lnTo>
                      <a:pt x="1246" y="1522"/>
                    </a:lnTo>
                    <a:lnTo>
                      <a:pt x="1297" y="1493"/>
                    </a:lnTo>
                    <a:lnTo>
                      <a:pt x="1416" y="1396"/>
                    </a:lnTo>
                    <a:lnTo>
                      <a:pt x="1396" y="1416"/>
                    </a:lnTo>
                    <a:lnTo>
                      <a:pt x="1482" y="1312"/>
                    </a:lnTo>
                    <a:lnTo>
                      <a:pt x="1516" y="1257"/>
                    </a:lnTo>
                    <a:lnTo>
                      <a:pt x="1545" y="1199"/>
                    </a:lnTo>
                    <a:lnTo>
                      <a:pt x="1568" y="1139"/>
                    </a:lnTo>
                    <a:lnTo>
                      <a:pt x="1585" y="1076"/>
                    </a:lnTo>
                    <a:lnTo>
                      <a:pt x="1596" y="1011"/>
                    </a:lnTo>
                    <a:lnTo>
                      <a:pt x="1600" y="942"/>
                    </a:lnTo>
                    <a:lnTo>
                      <a:pt x="1597" y="874"/>
                    </a:lnTo>
                    <a:lnTo>
                      <a:pt x="1588" y="809"/>
                    </a:lnTo>
                    <a:lnTo>
                      <a:pt x="1572" y="745"/>
                    </a:lnTo>
                    <a:lnTo>
                      <a:pt x="1550" y="684"/>
                    </a:lnTo>
                    <a:lnTo>
                      <a:pt x="1522" y="625"/>
                    </a:lnTo>
                    <a:lnTo>
                      <a:pt x="1482" y="559"/>
                    </a:lnTo>
                    <a:lnTo>
                      <a:pt x="1493" y="575"/>
                    </a:lnTo>
                    <a:lnTo>
                      <a:pt x="1396" y="457"/>
                    </a:lnTo>
                    <a:lnTo>
                      <a:pt x="1415" y="475"/>
                    </a:lnTo>
                    <a:lnTo>
                      <a:pt x="1296" y="377"/>
                    </a:lnTo>
                    <a:lnTo>
                      <a:pt x="1312" y="389"/>
                    </a:lnTo>
                    <a:lnTo>
                      <a:pt x="1257" y="355"/>
                    </a:lnTo>
                    <a:lnTo>
                      <a:pt x="1199" y="326"/>
                    </a:lnTo>
                    <a:lnTo>
                      <a:pt x="1139" y="303"/>
                    </a:lnTo>
                    <a:lnTo>
                      <a:pt x="1076" y="286"/>
                    </a:lnTo>
                    <a:lnTo>
                      <a:pt x="1011" y="275"/>
                    </a:lnTo>
                    <a:lnTo>
                      <a:pt x="942" y="271"/>
                    </a:lnTo>
                    <a:lnTo>
                      <a:pt x="874" y="274"/>
                    </a:lnTo>
                    <a:lnTo>
                      <a:pt x="809" y="283"/>
                    </a:lnTo>
                    <a:lnTo>
                      <a:pt x="745" y="299"/>
                    </a:lnTo>
                    <a:lnTo>
                      <a:pt x="684" y="321"/>
                    </a:lnTo>
                    <a:lnTo>
                      <a:pt x="625" y="349"/>
                    </a:lnTo>
                    <a:lnTo>
                      <a:pt x="559" y="389"/>
                    </a:lnTo>
                    <a:lnTo>
                      <a:pt x="575" y="377"/>
                    </a:lnTo>
                    <a:lnTo>
                      <a:pt x="457" y="475"/>
                    </a:lnTo>
                    <a:lnTo>
                      <a:pt x="475" y="457"/>
                    </a:lnTo>
                    <a:lnTo>
                      <a:pt x="377" y="575"/>
                    </a:lnTo>
                    <a:lnTo>
                      <a:pt x="389" y="559"/>
                    </a:lnTo>
                    <a:lnTo>
                      <a:pt x="355" y="614"/>
                    </a:lnTo>
                    <a:lnTo>
                      <a:pt x="326" y="672"/>
                    </a:lnTo>
                    <a:lnTo>
                      <a:pt x="303" y="732"/>
                    </a:lnTo>
                    <a:lnTo>
                      <a:pt x="286" y="795"/>
                    </a:lnTo>
                    <a:lnTo>
                      <a:pt x="275" y="860"/>
                    </a:lnTo>
                    <a:lnTo>
                      <a:pt x="271" y="929"/>
                    </a:lnTo>
                    <a:lnTo>
                      <a:pt x="274" y="997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"/>
              <p:cNvSpPr/>
              <p:nvPr/>
            </p:nvSpPr>
            <p:spPr>
              <a:xfrm>
                <a:off x="4164120" y="2235240"/>
                <a:ext cx="85680" cy="11520"/>
              </a:xfrm>
              <a:prstGeom prst="rect">
                <a:avLst/>
              </a:prstGeom>
              <a:solidFill>
                <a:srgbClr val="4a7ebb"/>
              </a:solidFill>
              <a:ln w="0">
                <a:solidFill>
                  <a:srgbClr val="4a7e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6" name="Straight Arrow Connector 99"/>
            <p:cNvCxnSpPr/>
            <p:nvPr/>
          </p:nvCxnSpPr>
          <p:spPr>
            <a:xfrm flipH="1" flipV="1">
              <a:off x="4671360" y="215676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47" name="Straight Connector 101"/>
            <p:cNvSpPr/>
            <p:nvPr/>
          </p:nvSpPr>
          <p:spPr>
            <a:xfrm>
              <a:off x="467208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02"/>
            <p:cNvSpPr/>
            <p:nvPr/>
          </p:nvSpPr>
          <p:spPr>
            <a:xfrm>
              <a:off x="464364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Straight Arrow Connector 103"/>
            <p:cNvCxnSpPr/>
            <p:nvPr/>
          </p:nvCxnSpPr>
          <p:spPr>
            <a:xfrm flipH="1" flipV="1">
              <a:off x="4671360" y="23032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0" name="Straight Connector 104"/>
            <p:cNvSpPr/>
            <p:nvPr/>
          </p:nvSpPr>
          <p:spPr>
            <a:xfrm>
              <a:off x="4809600" y="18936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105"/>
            <p:cNvSpPr/>
            <p:nvPr/>
          </p:nvSpPr>
          <p:spPr>
            <a:xfrm>
              <a:off x="4809600" y="23040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Straight Arrow Connector 106"/>
            <p:cNvCxnSpPr/>
            <p:nvPr/>
          </p:nvCxnSpPr>
          <p:spPr>
            <a:xfrm flipH="1" flipV="1">
              <a:off x="4671360" y="174600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53" name="Straight Connector 107"/>
            <p:cNvSpPr/>
            <p:nvPr/>
          </p:nvSpPr>
          <p:spPr>
            <a:xfrm>
              <a:off x="467208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traight Connector 108"/>
            <p:cNvSpPr/>
            <p:nvPr/>
          </p:nvSpPr>
          <p:spPr>
            <a:xfrm>
              <a:off x="464364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Straight Arrow Connector 109"/>
            <p:cNvCxnSpPr/>
            <p:nvPr/>
          </p:nvCxnSpPr>
          <p:spPr>
            <a:xfrm flipH="1" flipV="1">
              <a:off x="4671360" y="18928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6" name="Straight Connector 111"/>
            <p:cNvSpPr/>
            <p:nvPr/>
          </p:nvSpPr>
          <p:spPr>
            <a:xfrm>
              <a:off x="4809600" y="1570680"/>
              <a:ext cx="0" cy="175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traight Connector 115"/>
            <p:cNvSpPr/>
            <p:nvPr/>
          </p:nvSpPr>
          <p:spPr>
            <a:xfrm flipH="1">
              <a:off x="4451040" y="15706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traight Connector 117"/>
            <p:cNvSpPr/>
            <p:nvPr/>
          </p:nvSpPr>
          <p:spPr>
            <a:xfrm>
              <a:off x="4451040" y="157068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traight Connector 119"/>
            <p:cNvSpPr/>
            <p:nvPr/>
          </p:nvSpPr>
          <p:spPr>
            <a:xfrm>
              <a:off x="4451040" y="1834920"/>
              <a:ext cx="192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traight Connector 121"/>
            <p:cNvSpPr/>
            <p:nvPr/>
          </p:nvSpPr>
          <p:spPr>
            <a:xfrm flipV="1">
              <a:off x="4672080" y="1512360"/>
              <a:ext cx="0" cy="58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traight Connector 123"/>
            <p:cNvSpPr/>
            <p:nvPr/>
          </p:nvSpPr>
          <p:spPr>
            <a:xfrm>
              <a:off x="4643640" y="1512360"/>
              <a:ext cx="5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traight Connector 134"/>
            <p:cNvSpPr/>
            <p:nvPr/>
          </p:nvSpPr>
          <p:spPr>
            <a:xfrm flipH="1">
              <a:off x="4389480" y="2252520"/>
              <a:ext cx="25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137"/>
            <p:cNvSpPr/>
            <p:nvPr/>
          </p:nvSpPr>
          <p:spPr>
            <a:xfrm flipV="1">
              <a:off x="4164120" y="1371240"/>
              <a:ext cx="0" cy="86940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traight Connector 139"/>
            <p:cNvSpPr/>
            <p:nvPr/>
          </p:nvSpPr>
          <p:spPr>
            <a:xfrm flipH="1">
              <a:off x="2585880" y="1371600"/>
              <a:ext cx="1577880" cy="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141"/>
            <p:cNvSpPr/>
            <p:nvPr/>
          </p:nvSpPr>
          <p:spPr>
            <a:xfrm>
              <a:off x="2586240" y="1371600"/>
              <a:ext cx="0" cy="119628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9"/>
            <p:cNvSpPr/>
            <p:nvPr/>
          </p:nvSpPr>
          <p:spPr>
            <a:xfrm>
              <a:off x="4876200" y="172332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9"/>
            <p:cNvSpPr/>
            <p:nvPr/>
          </p:nvSpPr>
          <p:spPr>
            <a:xfrm>
              <a:off x="4881240" y="2216160"/>
              <a:ext cx="28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P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Straight Arrow Connector 158"/>
            <p:cNvCxnSpPr/>
            <p:nvPr/>
          </p:nvCxnSpPr>
          <p:spPr>
            <a:xfrm flipH="1">
              <a:off x="5166360" y="1584000"/>
              <a:ext cx="3600" cy="845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69" name="Rectangle 59"/>
            <p:cNvSpPr/>
            <p:nvPr/>
          </p:nvSpPr>
          <p:spPr>
            <a:xfrm>
              <a:off x="5311800" y="1864080"/>
              <a:ext cx="71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traight Connector 165"/>
            <p:cNvSpPr/>
            <p:nvPr/>
          </p:nvSpPr>
          <p:spPr>
            <a:xfrm>
              <a:off x="6028920" y="270864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166"/>
            <p:cNvSpPr/>
            <p:nvPr/>
          </p:nvSpPr>
          <p:spPr>
            <a:xfrm flipH="1" flipV="1">
              <a:off x="6387120" y="2708280"/>
              <a:ext cx="645480" cy="42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167"/>
            <p:cNvSpPr/>
            <p:nvPr/>
          </p:nvSpPr>
          <p:spPr>
            <a:xfrm>
              <a:off x="7032960" y="313092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59"/>
          <p:cNvSpPr/>
          <p:nvPr/>
        </p:nvSpPr>
        <p:spPr>
          <a:xfrm>
            <a:off x="3429000" y="1981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9"/>
          <p:cNvSpPr/>
          <p:nvPr/>
        </p:nvSpPr>
        <p:spPr>
          <a:xfrm>
            <a:off x="4572000" y="2819520"/>
            <a:ext cx="3049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677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Straight Arrow Connector 58"/>
            <p:cNvCxnSpPr>
              <a:stCxn id="677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81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6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687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94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5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96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704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2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720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721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8"/>
          <p:cNvGrpSpPr/>
          <p:nvPr/>
        </p:nvGrpSpPr>
        <p:grpSpPr>
          <a:xfrm>
            <a:off x="152280" y="-2666880"/>
            <a:ext cx="9144000" cy="4941000"/>
            <a:chOff x="152280" y="-2666880"/>
            <a:chExt cx="9144000" cy="4941000"/>
          </a:xfrm>
        </p:grpSpPr>
        <p:pic>
          <p:nvPicPr>
            <p:cNvPr id="731" name="Picture 61" descr="PTAT_Calibration.png"/>
            <p:cNvPicPr/>
            <p:nvPr/>
          </p:nvPicPr>
          <p:blipFill>
            <a:blip r:embed="rId1"/>
            <a:stretch/>
          </p:blipFill>
          <p:spPr>
            <a:xfrm>
              <a:off x="152280" y="-26668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1"/>
            <p:cNvSpPr/>
            <p:nvPr/>
          </p:nvSpPr>
          <p:spPr>
            <a:xfrm>
              <a:off x="2895480" y="190584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Initial calibration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228600" y="2438280"/>
            <a:ext cx="9144000" cy="5017320"/>
            <a:chOff x="228600" y="2438280"/>
            <a:chExt cx="9144000" cy="5017320"/>
          </a:xfrm>
        </p:grpSpPr>
        <p:pic>
          <p:nvPicPr>
            <p:cNvPr id="734" name="Picture 63" descr="PTAT_stable.png"/>
            <p:cNvPicPr/>
            <p:nvPr/>
          </p:nvPicPr>
          <p:blipFill>
            <a:blip r:embed="rId2"/>
            <a:stretch/>
          </p:blipFill>
          <p:spPr>
            <a:xfrm>
              <a:off x="228600" y="24382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Rectangle 1"/>
            <p:cNvSpPr/>
            <p:nvPr/>
          </p:nvSpPr>
          <p:spPr>
            <a:xfrm>
              <a:off x="2819160" y="70873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Final Settle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0" y="1565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 In-phase output using very simple calibration circuit. Consumes less than 2uW of power. Also presented a leakage current based ultra low power D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 A sensor node can decide what type of clock it needs, based on power or stability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0"/>
          <p:cNvGrpSpPr/>
          <p:nvPr/>
        </p:nvGrpSpPr>
        <p:grpSpPr>
          <a:xfrm>
            <a:off x="0" y="533520"/>
            <a:ext cx="8458200" cy="2502720"/>
            <a:chOff x="0" y="533520"/>
            <a:chExt cx="8458200" cy="2502720"/>
          </a:xfrm>
        </p:grpSpPr>
        <p:pic>
          <p:nvPicPr>
            <p:cNvPr id="740" name="Picture 6" descr="LP_Calibration.png"/>
            <p:cNvPicPr/>
            <p:nvPr/>
          </p:nvPicPr>
          <p:blipFill>
            <a:blip r:embed="rId1"/>
            <a:stretch/>
          </p:blipFill>
          <p:spPr>
            <a:xfrm>
              <a:off x="0" y="533520"/>
              <a:ext cx="4191120" cy="20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8" descr="LP_settled.png"/>
            <p:cNvPicPr/>
            <p:nvPr/>
          </p:nvPicPr>
          <p:blipFill>
            <a:blip r:embed="rId2"/>
            <a:stretch/>
          </p:blipFill>
          <p:spPr>
            <a:xfrm>
              <a:off x="4267080" y="533520"/>
              <a:ext cx="4191120" cy="20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1"/>
            <p:cNvSpPr/>
            <p:nvPr/>
          </p:nvSpPr>
          <p:spPr>
            <a:xfrm>
              <a:off x="60948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Initial Calib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"/>
            <p:cNvSpPr/>
            <p:nvPr/>
          </p:nvSpPr>
          <p:spPr>
            <a:xfrm>
              <a:off x="502920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Final Sett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ower1.emf"/>
          <p:cNvPicPr/>
          <p:nvPr/>
        </p:nvPicPr>
        <p:blipFill>
          <a:blip r:embed="rId1"/>
          <a:stretch/>
        </p:blipFill>
        <p:spPr>
          <a:xfrm>
            <a:off x="0" y="685800"/>
            <a:ext cx="73152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ower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52280" y="4941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iterature shows that on-chip oscillator consumes lower power in general than crystal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4"/>
          <p:cNvGrpSpPr/>
          <p:nvPr/>
        </p:nvGrpSpPr>
        <p:grpSpPr>
          <a:xfrm>
            <a:off x="603360" y="1676520"/>
            <a:ext cx="8321400" cy="3751920"/>
            <a:chOff x="603360" y="1676520"/>
            <a:chExt cx="8321400" cy="3751920"/>
          </a:xfrm>
        </p:grpSpPr>
        <p:sp>
          <p:nvSpPr>
            <p:cNvPr id="745" name="Rectangle 1"/>
            <p:cNvSpPr/>
            <p:nvPr/>
          </p:nvSpPr>
          <p:spPr>
            <a:xfrm>
              <a:off x="1447560" y="5029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1"/>
            <p:cNvSpPr/>
            <p:nvPr/>
          </p:nvSpPr>
          <p:spPr>
            <a:xfrm>
              <a:off x="603360" y="3200400"/>
              <a:ext cx="3045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290"/>
            <p:cNvSpPr/>
            <p:nvPr/>
          </p:nvSpPr>
          <p:spPr>
            <a:xfrm rot="16200000">
              <a:off x="254160" y="3396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Straight Connector 143"/>
            <p:cNvSpPr/>
            <p:nvPr/>
          </p:nvSpPr>
          <p:spPr>
            <a:xfrm flipH="1" flipV="1">
              <a:off x="907920" y="341280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171"/>
            <p:cNvGrpSpPr/>
            <p:nvPr/>
          </p:nvGrpSpPr>
          <p:grpSpPr>
            <a:xfrm>
              <a:off x="1143000" y="2437920"/>
              <a:ext cx="1212840" cy="2590920"/>
              <a:chOff x="1143000" y="2437920"/>
              <a:chExt cx="1212840" cy="2590920"/>
            </a:xfrm>
          </p:grpSpPr>
          <p:cxnSp>
            <p:nvCxnSpPr>
              <p:cNvPr id="750" name="Straight Arrow Connector 98"/>
              <p:cNvCxnSpPr/>
              <p:nvPr/>
            </p:nvCxnSpPr>
            <p:spPr>
              <a:xfrm flipH="1" flipV="1">
                <a:off x="2000160" y="275364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751" name="Straight Connector 99"/>
              <p:cNvSpPr/>
              <p:nvPr/>
            </p:nvSpPr>
            <p:spPr>
              <a:xfrm>
                <a:off x="2000880" y="27086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Straight Connector 100"/>
              <p:cNvSpPr/>
              <p:nvPr/>
            </p:nvSpPr>
            <p:spPr>
              <a:xfrm flipH="1" flipV="1">
                <a:off x="2000520" y="29916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Straight Connector 101"/>
              <p:cNvSpPr/>
              <p:nvPr/>
            </p:nvSpPr>
            <p:spPr>
              <a:xfrm flipH="1">
                <a:off x="1944720" y="27086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Straight Connector 102"/>
              <p:cNvSpPr/>
              <p:nvPr/>
            </p:nvSpPr>
            <p:spPr>
              <a:xfrm flipH="1">
                <a:off x="1226520" y="252504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Straight Connector 106"/>
              <p:cNvSpPr/>
              <p:nvPr/>
            </p:nvSpPr>
            <p:spPr>
              <a:xfrm flipV="1">
                <a:off x="1763280" y="243792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Straight Connector 107"/>
              <p:cNvSpPr/>
              <p:nvPr/>
            </p:nvSpPr>
            <p:spPr>
              <a:xfrm>
                <a:off x="1716840" y="24382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Straight Connector 108"/>
              <p:cNvSpPr/>
              <p:nvPr/>
            </p:nvSpPr>
            <p:spPr>
              <a:xfrm flipH="1">
                <a:off x="1558080" y="383256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Straight Arrow Connector 109"/>
              <p:cNvCxnSpPr/>
              <p:nvPr/>
            </p:nvCxnSpPr>
            <p:spPr>
              <a:xfrm flipH="1" flipV="1">
                <a:off x="2003040" y="373932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59" name="Straight Connector 110"/>
              <p:cNvSpPr/>
              <p:nvPr/>
            </p:nvSpPr>
            <p:spPr>
              <a:xfrm>
                <a:off x="20037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Straight Connector 111"/>
              <p:cNvSpPr/>
              <p:nvPr/>
            </p:nvSpPr>
            <p:spPr>
              <a:xfrm flipH="1" flipV="1">
                <a:off x="2003400" y="392328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Straight Connector 112"/>
              <p:cNvSpPr/>
              <p:nvPr/>
            </p:nvSpPr>
            <p:spPr>
              <a:xfrm>
                <a:off x="19479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Straight Connector 113"/>
              <p:cNvSpPr/>
              <p:nvPr/>
            </p:nvSpPr>
            <p:spPr>
              <a:xfrm flipH="1">
                <a:off x="2279880" y="392364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Straight Connector 114"/>
              <p:cNvSpPr/>
              <p:nvPr/>
            </p:nvSpPr>
            <p:spPr>
              <a:xfrm>
                <a:off x="2169720" y="497988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Straight Connector 115"/>
              <p:cNvSpPr/>
              <p:nvPr/>
            </p:nvSpPr>
            <p:spPr>
              <a:xfrm>
                <a:off x="2216520" y="49982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Straight Connector 116"/>
              <p:cNvSpPr/>
              <p:nvPr/>
            </p:nvSpPr>
            <p:spPr>
              <a:xfrm>
                <a:off x="2250360" y="501552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117"/>
              <p:cNvSpPr/>
              <p:nvPr/>
            </p:nvSpPr>
            <p:spPr>
              <a:xfrm flipH="1">
                <a:off x="1225080" y="25250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Straight Connector 118"/>
              <p:cNvSpPr/>
              <p:nvPr/>
            </p:nvSpPr>
            <p:spPr>
              <a:xfrm flipH="1" flipV="1">
                <a:off x="1666800" y="288576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Straight Connector 119"/>
              <p:cNvSpPr/>
              <p:nvPr/>
            </p:nvSpPr>
            <p:spPr>
              <a:xfrm>
                <a:off x="15555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Straight Connector 120"/>
              <p:cNvSpPr/>
              <p:nvPr/>
            </p:nvSpPr>
            <p:spPr>
              <a:xfrm flipH="1" flipV="1">
                <a:off x="1221480" y="27565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Straight Connector 121"/>
              <p:cNvSpPr/>
              <p:nvPr/>
            </p:nvSpPr>
            <p:spPr>
              <a:xfrm>
                <a:off x="14997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Straight Connector 122"/>
              <p:cNvSpPr/>
              <p:nvPr/>
            </p:nvSpPr>
            <p:spPr>
              <a:xfrm flipH="1">
                <a:off x="2287800" y="253008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Straight Connector 123"/>
              <p:cNvSpPr/>
              <p:nvPr/>
            </p:nvSpPr>
            <p:spPr>
              <a:xfrm flipH="1">
                <a:off x="1221480" y="300060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Straight Connector 124"/>
              <p:cNvSpPr/>
              <p:nvPr/>
            </p:nvSpPr>
            <p:spPr>
              <a:xfrm flipH="1" flipV="1">
                <a:off x="1555560" y="288576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4" name="Straight Arrow Connector 125"/>
              <p:cNvCxnSpPr/>
              <p:nvPr/>
            </p:nvCxnSpPr>
            <p:spPr>
              <a:xfrm flipH="1" flipV="1">
                <a:off x="1225800" y="374688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75" name="Straight Connector 126"/>
              <p:cNvSpPr/>
              <p:nvPr/>
            </p:nvSpPr>
            <p:spPr>
              <a:xfrm>
                <a:off x="150444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27"/>
              <p:cNvSpPr/>
              <p:nvPr/>
            </p:nvSpPr>
            <p:spPr>
              <a:xfrm flipH="1" flipV="1">
                <a:off x="1226160" y="39232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28"/>
              <p:cNvSpPr/>
              <p:nvPr/>
            </p:nvSpPr>
            <p:spPr>
              <a:xfrm flipH="1">
                <a:off x="1558440" y="364752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29"/>
              <p:cNvSpPr/>
              <p:nvPr/>
            </p:nvSpPr>
            <p:spPr>
              <a:xfrm>
                <a:off x="1143000" y="49932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Straight Connector 130"/>
              <p:cNvSpPr/>
              <p:nvPr/>
            </p:nvSpPr>
            <p:spPr>
              <a:xfrm>
                <a:off x="1189440" y="50104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Straight Connector 131"/>
              <p:cNvSpPr/>
              <p:nvPr/>
            </p:nvSpPr>
            <p:spPr>
              <a:xfrm>
                <a:off x="1223640" y="502776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Straight Connector 132"/>
              <p:cNvSpPr/>
              <p:nvPr/>
            </p:nvSpPr>
            <p:spPr>
              <a:xfrm>
                <a:off x="1825560" y="287856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133"/>
              <p:cNvSpPr/>
              <p:nvPr/>
            </p:nvSpPr>
            <p:spPr>
              <a:xfrm flipH="1">
                <a:off x="1825560" y="329400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Straight Connector 134"/>
              <p:cNvSpPr/>
              <p:nvPr/>
            </p:nvSpPr>
            <p:spPr>
              <a:xfrm flipH="1">
                <a:off x="2272320" y="299700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Straight Connector 135"/>
              <p:cNvSpPr/>
              <p:nvPr/>
            </p:nvSpPr>
            <p:spPr>
              <a:xfrm flipH="1">
                <a:off x="1229760" y="30045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Straight Connector 136"/>
              <p:cNvSpPr/>
              <p:nvPr/>
            </p:nvSpPr>
            <p:spPr>
              <a:xfrm flipH="1">
                <a:off x="1229760" y="34185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Straight Connector 137"/>
              <p:cNvSpPr/>
              <p:nvPr/>
            </p:nvSpPr>
            <p:spPr>
              <a:xfrm>
                <a:off x="1685880" y="341100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348"/>
              <p:cNvGrpSpPr/>
              <p:nvPr/>
            </p:nvGrpSpPr>
            <p:grpSpPr>
              <a:xfrm>
                <a:off x="2178720" y="4209480"/>
                <a:ext cx="149040" cy="473040"/>
                <a:chOff x="2178720" y="4209480"/>
                <a:chExt cx="149040" cy="473040"/>
              </a:xfrm>
            </p:grpSpPr>
            <p:sp>
              <p:nvSpPr>
                <p:cNvPr id="788" name="Straight Connector 162"/>
                <p:cNvSpPr/>
                <p:nvPr/>
              </p:nvSpPr>
              <p:spPr>
                <a:xfrm flipH="1" flipV="1">
                  <a:off x="2179080" y="465300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Straight Connector 163"/>
                <p:cNvSpPr/>
                <p:nvPr/>
              </p:nvSpPr>
              <p:spPr>
                <a:xfrm flipV="1">
                  <a:off x="2179080" y="4593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Straight Connector 164"/>
                <p:cNvSpPr/>
                <p:nvPr/>
              </p:nvSpPr>
              <p:spPr>
                <a:xfrm flipH="1" flipV="1">
                  <a:off x="2178720" y="45349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Straight Connector 165"/>
                <p:cNvSpPr/>
                <p:nvPr/>
              </p:nvSpPr>
              <p:spPr>
                <a:xfrm flipV="1">
                  <a:off x="2179080" y="44758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Straight Connector 166"/>
                <p:cNvSpPr/>
                <p:nvPr/>
              </p:nvSpPr>
              <p:spPr>
                <a:xfrm flipH="1" flipV="1">
                  <a:off x="2178720" y="4416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Straight Connector 167"/>
                <p:cNvSpPr/>
                <p:nvPr/>
              </p:nvSpPr>
              <p:spPr>
                <a:xfrm flipV="1">
                  <a:off x="2179080" y="4357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Straight Connector 168"/>
                <p:cNvSpPr/>
                <p:nvPr/>
              </p:nvSpPr>
              <p:spPr>
                <a:xfrm flipH="1" flipV="1">
                  <a:off x="2178720" y="42980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Straight Connector 169"/>
                <p:cNvSpPr/>
                <p:nvPr/>
              </p:nvSpPr>
              <p:spPr>
                <a:xfrm flipV="1">
                  <a:off x="2179080" y="4239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Straight Connector 170"/>
                <p:cNvSpPr/>
                <p:nvPr/>
              </p:nvSpPr>
              <p:spPr>
                <a:xfrm flipH="1" flipV="1">
                  <a:off x="2252880" y="420948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Straight Connector 139"/>
              <p:cNvSpPr/>
              <p:nvPr/>
            </p:nvSpPr>
            <p:spPr>
              <a:xfrm>
                <a:off x="2253600" y="469008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Straight Connector 140"/>
              <p:cNvSpPr/>
              <p:nvPr/>
            </p:nvSpPr>
            <p:spPr>
              <a:xfrm flipH="1">
                <a:off x="1239120" y="392112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47"/>
              <p:cNvSpPr/>
              <p:nvPr/>
            </p:nvSpPr>
            <p:spPr>
              <a:xfrm>
                <a:off x="2244240" y="32706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48"/>
              <p:cNvSpPr/>
              <p:nvPr/>
            </p:nvSpPr>
            <p:spPr>
              <a:xfrm>
                <a:off x="1211040" y="339624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1" name="Straight Arrow Connector 149"/>
            <p:cNvCxnSpPr/>
            <p:nvPr/>
          </p:nvCxnSpPr>
          <p:spPr>
            <a:xfrm flipH="1">
              <a:off x="2431800" y="266652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02" name="TextBox 305"/>
            <p:cNvSpPr/>
            <p:nvPr/>
          </p:nvSpPr>
          <p:spPr>
            <a:xfrm>
              <a:off x="1822320" y="3429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315"/>
            <p:cNvSpPr/>
            <p:nvPr/>
          </p:nvSpPr>
          <p:spPr>
            <a:xfrm>
              <a:off x="174636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305"/>
            <p:cNvSpPr/>
            <p:nvPr/>
          </p:nvSpPr>
          <p:spPr>
            <a:xfrm>
              <a:off x="1212840" y="35053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305"/>
            <p:cNvSpPr/>
            <p:nvPr/>
          </p:nvSpPr>
          <p:spPr>
            <a:xfrm>
              <a:off x="121284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305"/>
            <p:cNvSpPr/>
            <p:nvPr/>
          </p:nvSpPr>
          <p:spPr>
            <a:xfrm>
              <a:off x="205092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305"/>
            <p:cNvSpPr/>
            <p:nvPr/>
          </p:nvSpPr>
          <p:spPr>
            <a:xfrm>
              <a:off x="2432160" y="2743200"/>
              <a:ext cx="84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70"/>
            <p:cNvSpPr/>
            <p:nvPr/>
          </p:nvSpPr>
          <p:spPr>
            <a:xfrm>
              <a:off x="2438280" y="4343400"/>
              <a:ext cx="99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:32 bit control on resis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Straight Arrow Connector 72"/>
            <p:cNvCxnSpPr>
              <a:stCxn id="808" idx="1"/>
            </p:cNvCxnSpPr>
            <p:nvPr/>
          </p:nvCxnSpPr>
          <p:spPr>
            <a:xfrm flipH="1" flipV="1">
              <a:off x="2057040" y="4419000"/>
              <a:ext cx="381600" cy="1782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pic>
          <p:nvPicPr>
            <p:cNvPr id="810" name="Picture 73" descr="ICOMP_Cross_corner.png"/>
            <p:cNvPicPr/>
            <p:nvPr/>
          </p:nvPicPr>
          <p:blipFill>
            <a:blip r:embed="rId1"/>
            <a:stretch/>
          </p:blipFill>
          <p:spPr>
            <a:xfrm>
              <a:off x="3200400" y="1676520"/>
              <a:ext cx="5724360" cy="373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tab_new.emf"/>
          <p:cNvPicPr/>
          <p:nvPr/>
        </p:nvPicPr>
        <p:blipFill>
          <a:blip r:embed="rId1"/>
          <a:stretch/>
        </p:blipFill>
        <p:spPr>
          <a:xfrm>
            <a:off x="0" y="685800"/>
            <a:ext cx="7086600" cy="3913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Temp. Stability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28600" y="4537080"/>
            <a:ext cx="8763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expressed in 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1ppm/oC means ~1S variation of clock period in a day for a change of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more stable than on-chip oscil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6320" y="1106640"/>
            <a:ext cx="8762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oscillator with stability close to crystal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Goal :- Move towards 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Proposes a stable clock with stability 8ppm/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&lt;2uW and runs at 200K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 70nW clock at 200Khz using leakage current (uncompensa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n open loop calibration circuit for the clock, Circuit for voltage, Process and mismatch effects for the c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scillato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0" y="767160"/>
            <a:ext cx="9144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LC [16] -&gt; Higher power/ high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Relaxation oscillator [8] -&gt; Uses Opamp, higher power,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tarved ring oscil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st for low power. [1-3] &amp; [17-18] and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[1-3] uses gate leakage as current source and used at extremely low freq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51436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tan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will result in a stable oscil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3"/>
          <p:cNvGrpSpPr/>
          <p:nvPr/>
        </p:nvGrpSpPr>
        <p:grpSpPr>
          <a:xfrm>
            <a:off x="363600" y="3048120"/>
            <a:ext cx="3200400" cy="1904760"/>
            <a:chOff x="363600" y="3048120"/>
            <a:chExt cx="3200400" cy="1904760"/>
          </a:xfrm>
        </p:grpSpPr>
        <p:sp>
          <p:nvSpPr>
            <p:cNvPr id="68" name="Oval 55"/>
            <p:cNvSpPr/>
            <p:nvPr/>
          </p:nvSpPr>
          <p:spPr>
            <a:xfrm>
              <a:off x="65880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56"/>
            <p:cNvCxnSpPr/>
            <p:nvPr/>
          </p:nvCxnSpPr>
          <p:spPr>
            <a:xfrm flipH="1">
              <a:off x="81396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Straight Connector 57"/>
            <p:cNvSpPr/>
            <p:nvPr/>
          </p:nvSpPr>
          <p:spPr>
            <a:xfrm>
              <a:off x="80784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8"/>
            <p:cNvSpPr/>
            <p:nvPr/>
          </p:nvSpPr>
          <p:spPr>
            <a:xfrm>
              <a:off x="65880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59"/>
            <p:cNvSpPr/>
            <p:nvPr/>
          </p:nvSpPr>
          <p:spPr>
            <a:xfrm rot="5400000">
              <a:off x="65520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60"/>
            <p:cNvSpPr/>
            <p:nvPr/>
          </p:nvSpPr>
          <p:spPr>
            <a:xfrm>
              <a:off x="82224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>
              <a:off x="65880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Straight Arrow Connector 62"/>
            <p:cNvCxnSpPr/>
            <p:nvPr/>
          </p:nvCxnSpPr>
          <p:spPr>
            <a:xfrm flipH="1">
              <a:off x="81396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63"/>
            <p:cNvSpPr/>
            <p:nvPr/>
          </p:nvSpPr>
          <p:spPr>
            <a:xfrm>
              <a:off x="81432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64"/>
            <p:cNvSpPr/>
            <p:nvPr/>
          </p:nvSpPr>
          <p:spPr>
            <a:xfrm>
              <a:off x="101448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65"/>
            <p:cNvSpPr/>
            <p:nvPr/>
          </p:nvSpPr>
          <p:spPr>
            <a:xfrm>
              <a:off x="81432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6"/>
            <p:cNvSpPr/>
            <p:nvPr/>
          </p:nvSpPr>
          <p:spPr>
            <a:xfrm>
              <a:off x="65880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67"/>
            <p:cNvSpPr/>
            <p:nvPr/>
          </p:nvSpPr>
          <p:spPr>
            <a:xfrm>
              <a:off x="71892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traight Connector 68"/>
            <p:cNvSpPr/>
            <p:nvPr/>
          </p:nvSpPr>
          <p:spPr>
            <a:xfrm>
              <a:off x="777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69"/>
            <p:cNvSpPr/>
            <p:nvPr/>
          </p:nvSpPr>
          <p:spPr>
            <a:xfrm>
              <a:off x="1133280" y="4091040"/>
              <a:ext cx="8888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0"/>
            <p:cNvSpPr/>
            <p:nvPr/>
          </p:nvSpPr>
          <p:spPr>
            <a:xfrm>
              <a:off x="202248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Straight Arrow Connector 71"/>
            <p:cNvCxnSpPr/>
            <p:nvPr/>
          </p:nvCxnSpPr>
          <p:spPr>
            <a:xfrm flipH="1">
              <a:off x="217764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5" name="Straight Connector 72"/>
            <p:cNvSpPr/>
            <p:nvPr/>
          </p:nvSpPr>
          <p:spPr>
            <a:xfrm>
              <a:off x="217008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73"/>
            <p:cNvSpPr/>
            <p:nvPr/>
          </p:nvSpPr>
          <p:spPr>
            <a:xfrm>
              <a:off x="202248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Isosceles Triangle 74"/>
            <p:cNvSpPr/>
            <p:nvPr/>
          </p:nvSpPr>
          <p:spPr>
            <a:xfrm rot="5400000">
              <a:off x="201888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75"/>
            <p:cNvSpPr/>
            <p:nvPr/>
          </p:nvSpPr>
          <p:spPr>
            <a:xfrm>
              <a:off x="218592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6"/>
            <p:cNvSpPr/>
            <p:nvPr/>
          </p:nvSpPr>
          <p:spPr>
            <a:xfrm>
              <a:off x="202248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Straight Arrow Connector 77"/>
            <p:cNvCxnSpPr/>
            <p:nvPr/>
          </p:nvCxnSpPr>
          <p:spPr>
            <a:xfrm flipH="1">
              <a:off x="217764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1" name="Straight Connector 78"/>
            <p:cNvSpPr/>
            <p:nvPr/>
          </p:nvSpPr>
          <p:spPr>
            <a:xfrm>
              <a:off x="217800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9"/>
            <p:cNvSpPr/>
            <p:nvPr/>
          </p:nvSpPr>
          <p:spPr>
            <a:xfrm>
              <a:off x="237816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80"/>
            <p:cNvSpPr/>
            <p:nvPr/>
          </p:nvSpPr>
          <p:spPr>
            <a:xfrm>
              <a:off x="217800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81"/>
            <p:cNvSpPr/>
            <p:nvPr/>
          </p:nvSpPr>
          <p:spPr>
            <a:xfrm>
              <a:off x="202248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82"/>
            <p:cNvSpPr/>
            <p:nvPr/>
          </p:nvSpPr>
          <p:spPr>
            <a:xfrm>
              <a:off x="208116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83"/>
            <p:cNvSpPr/>
            <p:nvPr/>
          </p:nvSpPr>
          <p:spPr>
            <a:xfrm>
              <a:off x="214164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4"/>
            <p:cNvSpPr/>
            <p:nvPr/>
          </p:nvSpPr>
          <p:spPr>
            <a:xfrm>
              <a:off x="2497320" y="4091040"/>
              <a:ext cx="1066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85"/>
            <p:cNvSpPr/>
            <p:nvPr/>
          </p:nvSpPr>
          <p:spPr>
            <a:xfrm>
              <a:off x="154800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86"/>
            <p:cNvSpPr/>
            <p:nvPr/>
          </p:nvSpPr>
          <p:spPr>
            <a:xfrm>
              <a:off x="1430280" y="431820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87"/>
            <p:cNvSpPr/>
            <p:nvPr/>
          </p:nvSpPr>
          <p:spPr>
            <a:xfrm>
              <a:off x="1430280" y="436392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8"/>
            <p:cNvSpPr/>
            <p:nvPr/>
          </p:nvSpPr>
          <p:spPr>
            <a:xfrm>
              <a:off x="154800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89"/>
            <p:cNvSpPr/>
            <p:nvPr/>
          </p:nvSpPr>
          <p:spPr>
            <a:xfrm>
              <a:off x="139212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0"/>
            <p:cNvSpPr/>
            <p:nvPr/>
          </p:nvSpPr>
          <p:spPr>
            <a:xfrm>
              <a:off x="145260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1"/>
            <p:cNvSpPr/>
            <p:nvPr/>
          </p:nvSpPr>
          <p:spPr>
            <a:xfrm>
              <a:off x="151128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2"/>
            <p:cNvSpPr/>
            <p:nvPr/>
          </p:nvSpPr>
          <p:spPr>
            <a:xfrm>
              <a:off x="291168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93"/>
            <p:cNvSpPr/>
            <p:nvPr/>
          </p:nvSpPr>
          <p:spPr>
            <a:xfrm>
              <a:off x="2792520" y="431820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94"/>
            <p:cNvSpPr/>
            <p:nvPr/>
          </p:nvSpPr>
          <p:spPr>
            <a:xfrm>
              <a:off x="2792520" y="436392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5"/>
            <p:cNvSpPr/>
            <p:nvPr/>
          </p:nvSpPr>
          <p:spPr>
            <a:xfrm>
              <a:off x="291168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6"/>
            <p:cNvSpPr/>
            <p:nvPr/>
          </p:nvSpPr>
          <p:spPr>
            <a:xfrm>
              <a:off x="275616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97"/>
            <p:cNvSpPr/>
            <p:nvPr/>
          </p:nvSpPr>
          <p:spPr>
            <a:xfrm>
              <a:off x="281484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98"/>
            <p:cNvSpPr/>
            <p:nvPr/>
          </p:nvSpPr>
          <p:spPr>
            <a:xfrm>
              <a:off x="2874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99"/>
            <p:cNvSpPr/>
            <p:nvPr/>
          </p:nvSpPr>
          <p:spPr>
            <a:xfrm>
              <a:off x="363600" y="3054240"/>
              <a:ext cx="284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100"/>
            <p:cNvSpPr/>
            <p:nvPr/>
          </p:nvSpPr>
          <p:spPr>
            <a:xfrm>
              <a:off x="3200760" y="3054240"/>
              <a:ext cx="0" cy="10429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101"/>
            <p:cNvSpPr/>
            <p:nvPr/>
          </p:nvSpPr>
          <p:spPr>
            <a:xfrm>
              <a:off x="369720" y="3048120"/>
              <a:ext cx="0" cy="1031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102"/>
            <p:cNvSpPr/>
            <p:nvPr/>
          </p:nvSpPr>
          <p:spPr>
            <a:xfrm>
              <a:off x="363600" y="4079880"/>
              <a:ext cx="295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3"/>
            <p:cNvSpPr/>
            <p:nvPr/>
          </p:nvSpPr>
          <p:spPr>
            <a:xfrm>
              <a:off x="97308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4"/>
            <p:cNvSpPr/>
            <p:nvPr/>
          </p:nvSpPr>
          <p:spPr>
            <a:xfrm>
              <a:off x="97308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5"/>
            <p:cNvSpPr/>
            <p:nvPr/>
          </p:nvSpPr>
          <p:spPr>
            <a:xfrm>
              <a:off x="226872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6"/>
            <p:cNvSpPr/>
            <p:nvPr/>
          </p:nvSpPr>
          <p:spPr>
            <a:xfrm>
              <a:off x="226872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7"/>
            <p:cNvSpPr/>
            <p:nvPr/>
          </p:nvSpPr>
          <p:spPr>
            <a:xfrm>
              <a:off x="15066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08"/>
            <p:cNvSpPr/>
            <p:nvPr/>
          </p:nvSpPr>
          <p:spPr>
            <a:xfrm>
              <a:off x="28782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12"/>
          <p:cNvGrpSpPr/>
          <p:nvPr/>
        </p:nvGrpSpPr>
        <p:grpSpPr>
          <a:xfrm>
            <a:off x="0" y="3042000"/>
            <a:ext cx="9144000" cy="2742840"/>
            <a:chOff x="0" y="3042000"/>
            <a:chExt cx="9144000" cy="2742840"/>
          </a:xfrm>
        </p:grpSpPr>
        <p:sp>
          <p:nvSpPr>
            <p:cNvPr id="123" name="Rectangle 1"/>
            <p:cNvSpPr/>
            <p:nvPr/>
          </p:nvSpPr>
          <p:spPr>
            <a:xfrm>
              <a:off x="0" y="3042000"/>
              <a:ext cx="35812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 + CTAT=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ll result in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Less than 1%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Standard way of obtaining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209" descr="ICOMP_NOM_NEW.png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5334120" cy="24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210"/>
          <p:cNvGrpSpPr/>
          <p:nvPr/>
        </p:nvGrpSpPr>
        <p:grpSpPr>
          <a:xfrm>
            <a:off x="0" y="914400"/>
            <a:ext cx="9144000" cy="2097720"/>
            <a:chOff x="0" y="914400"/>
            <a:chExt cx="9144000" cy="2097720"/>
          </a:xfrm>
        </p:grpSpPr>
        <p:pic>
          <p:nvPicPr>
            <p:cNvPr id="126" name="Picture 60" descr="IDC_Sweep.png"/>
            <p:cNvPicPr/>
            <p:nvPr/>
          </p:nvPicPr>
          <p:blipFill>
            <a:blip r:embed="rId2"/>
            <a:stretch/>
          </p:blipFill>
          <p:spPr>
            <a:xfrm>
              <a:off x="5631480" y="914400"/>
              <a:ext cx="3512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"/>
            <p:cNvSpPr/>
            <p:nvPr/>
          </p:nvSpPr>
          <p:spPr>
            <a:xfrm>
              <a:off x="0" y="1242720"/>
              <a:ext cx="36576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MOS in strong in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decreases with 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3"/>
            <a:stretch/>
          </p:blipFill>
          <p:spPr>
            <a:xfrm>
              <a:off x="3505320" y="1066680"/>
              <a:ext cx="180792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onstan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1"/>
          <p:cNvGrpSpPr/>
          <p:nvPr/>
        </p:nvGrpSpPr>
        <p:grpSpPr>
          <a:xfrm>
            <a:off x="0" y="1981080"/>
            <a:ext cx="9144000" cy="2057400"/>
            <a:chOff x="0" y="1981080"/>
            <a:chExt cx="9144000" cy="2057400"/>
          </a:xfrm>
        </p:grpSpPr>
        <p:pic>
          <p:nvPicPr>
            <p:cNvPr id="131" name="Picture 3" descr=""/>
            <p:cNvPicPr/>
            <p:nvPr/>
          </p:nvPicPr>
          <p:blipFill>
            <a:blip r:embed="rId4"/>
            <a:stretch/>
          </p:blipFill>
          <p:spPr>
            <a:xfrm>
              <a:off x="3276720" y="1981080"/>
              <a:ext cx="22096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06" descr="IPTAT.png"/>
            <p:cNvPicPr/>
            <p:nvPr/>
          </p:nvPicPr>
          <p:blipFill>
            <a:blip r:embed="rId5"/>
            <a:stretch/>
          </p:blipFill>
          <p:spPr>
            <a:xfrm>
              <a:off x="5562720" y="2133360"/>
              <a:ext cx="3581280" cy="17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"/>
            <p:cNvSpPr/>
            <p:nvPr/>
          </p:nvSpPr>
          <p:spPr>
            <a:xfrm>
              <a:off x="0" y="2430000"/>
              <a:ext cx="320040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increas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4" name="Straight Arrow Connector 14"/>
          <p:cNvCxnSpPr/>
          <p:nvPr/>
        </p:nvCxnSpPr>
        <p:spPr>
          <a:xfrm flipV="1">
            <a:off x="6400800" y="4876560"/>
            <a:ext cx="2160" cy="38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Straight Arrow Connector 15"/>
          <p:cNvCxnSpPr/>
          <p:nvPr/>
        </p:nvCxnSpPr>
        <p:spPr>
          <a:xfrm flipH="1">
            <a:off x="6400440" y="5486400"/>
            <a:ext cx="2160" cy="381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ectangle 1"/>
          <p:cNvSpPr/>
          <p:nvPr/>
        </p:nvSpPr>
        <p:spPr>
          <a:xfrm>
            <a:off x="5715000" y="4465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5638680" y="5761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process variation the absolute value of the current wil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8 bits are used which can give different weight of the constant cur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contro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urrent_source.emf"/>
          <p:cNvPicPr/>
          <p:nvPr/>
        </p:nvPicPr>
        <p:blipFill>
          <a:blip r:embed="rId1"/>
          <a:stretch/>
        </p:blipFill>
        <p:spPr>
          <a:xfrm>
            <a:off x="762120" y="2438280"/>
            <a:ext cx="3676680" cy="237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53074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ing Binary weights a desired current i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dcterms:modified xsi:type="dcterms:W3CDTF">2011-05-07T20:59:15Z</dcterms:modified>
  <cp:revision>649</cp:revision>
  <dc:subject/>
  <dc:title>Slide 1</dc:title>
</cp:coreProperties>
</file>